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jpeg" ContentType="image/jpeg"/>
  <Override PartName="/ppt/media/image52.jpeg" ContentType="image/jpeg"/>
  <Override PartName="/ppt/media/image1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7.jpeg" ContentType="image/jpeg"/>
  <Override PartName="/ppt/media/image46.wmf" ContentType="image/x-wmf"/>
  <Override PartName="/ppt/media/image69.jpeg" ContentType="image/jpeg"/>
  <Override PartName="/ppt/media/image45.png" ContentType="image/png"/>
  <Override PartName="/ppt/media/image43.png" ContentType="image/png"/>
  <Override PartName="/ppt/media/image44.png" ContentType="image/png"/>
  <Override PartName="/ppt/media/image75.jpeg" ContentType="image/jpeg"/>
  <Override PartName="/ppt/media/image57.png" ContentType="image/png"/>
  <Override PartName="/ppt/media/image36.jpeg" ContentType="image/jpeg"/>
  <Override PartName="/ppt/media/image10.png" ContentType="image/png"/>
  <Override PartName="/ppt/media/image34.jpeg" ContentType="image/jpeg"/>
  <Override PartName="/ppt/media/image32.jpeg" ContentType="image/jpeg"/>
  <Override PartName="/ppt/media/image31.jpeg" ContentType="image/jpeg"/>
  <Override PartName="/ppt/media/image37.jpeg" ContentType="image/jpeg"/>
  <Override PartName="/ppt/media/image30.png" ContentType="image/png"/>
  <Override PartName="/ppt/media/image48.png" ContentType="image/png"/>
  <Override PartName="/ppt/media/image22.jpeg" ContentType="image/jpeg"/>
  <Override PartName="/ppt/media/image76.jpeg" ContentType="image/jpeg"/>
  <Override PartName="/ppt/media/image12.png" ContentType="image/png"/>
  <Override PartName="/ppt/media/image49.jpeg" ContentType="image/jpeg"/>
  <Override PartName="/ppt/media/image88.png" ContentType="image/png"/>
  <Override PartName="/ppt/media/image27.png" ContentType="image/png"/>
  <Override PartName="/ppt/media/image33.jpeg" ContentType="image/jpeg"/>
  <Override PartName="/ppt/media/image60.png" ContentType="image/png"/>
  <Override PartName="/ppt/media/image6.jpeg" ContentType="image/jpeg"/>
  <Override PartName="/ppt/media/image64.jpeg" ContentType="image/jpeg"/>
  <Override PartName="/ppt/media/image28.png" ContentType="image/png"/>
  <Override PartName="/ppt/media/image81.png" ContentType="image/png"/>
  <Override PartName="/ppt/media/image16.png" ContentType="image/png"/>
  <Override PartName="/ppt/media/image7.jpeg" ContentType="image/jpeg"/>
  <Override PartName="/ppt/media/image87.png" ContentType="image/png"/>
  <Override PartName="/ppt/media/image85.jpeg" ContentType="image/jpeg"/>
  <Override PartName="/ppt/media/image26.jpeg" ContentType="image/jpeg"/>
  <Override PartName="/ppt/media/image70.jpeg" ContentType="image/jpeg"/>
  <Override PartName="/ppt/media/image63.jpeg" ContentType="image/jpeg"/>
  <Override PartName="/ppt/media/image29.png" ContentType="image/png"/>
  <Override PartName="/ppt/media/image65.jpeg" ContentType="image/jpeg"/>
  <Override PartName="/ppt/media/image5.png" ContentType="image/png"/>
  <Override PartName="/ppt/media/image39.jpeg" ContentType="image/jpeg"/>
  <Override PartName="/ppt/media/image78.jpeg" ContentType="image/jpeg"/>
  <Override PartName="/ppt/media/image24.jpeg" ContentType="image/jpeg"/>
  <Override PartName="/ppt/media/image83.jpeg" ContentType="image/jpeg"/>
  <Override PartName="/ppt/media/image77.jpeg" ContentType="image/jpeg"/>
  <Override PartName="/ppt/media/image80.jpeg" ContentType="image/jpeg"/>
  <Override PartName="/ppt/media/image54.jpeg" ContentType="image/jpeg"/>
  <Override PartName="/ppt/media/image74.jpeg" ContentType="image/jpeg"/>
  <Override PartName="/ppt/media/image73.jpeg" ContentType="image/jpeg"/>
  <Override PartName="/ppt/media/image61.png" ContentType="image/png"/>
  <Override PartName="/ppt/media/image68.jpeg" ContentType="image/jpeg"/>
  <Override PartName="/ppt/media/image71.jpeg" ContentType="image/jpeg"/>
  <Override PartName="/ppt/media/image66.jpeg" ContentType="image/jpeg"/>
  <Override PartName="/ppt/media/image11.png" ContentType="image/png"/>
  <Override PartName="/ppt/media/image9.png" ContentType="image/png"/>
  <Override PartName="/ppt/media/image86.png" ContentType="image/png"/>
  <Override PartName="/ppt/media/image67.jpeg" ContentType="image/jpeg"/>
  <Override PartName="/ppt/media/image21.png" ContentType="image/png"/>
  <Override PartName="/ppt/media/image1.jpeg" ContentType="image/jpeg"/>
  <Override PartName="/ppt/media/image35.jpeg" ContentType="image/jpeg"/>
  <Override PartName="/ppt/media/image38.jpeg" ContentType="image/jpeg"/>
  <Override PartName="/ppt/media/image72.png" ContentType="image/png"/>
  <Override PartName="/ppt/media/image17.jpeg" ContentType="image/jpeg"/>
  <Override PartName="/ppt/media/image15.png" ContentType="image/png"/>
  <Override PartName="/ppt/media/image3.png" ContentType="image/png"/>
  <Override PartName="/ppt/media/image42.wmf" ContentType="image/x-wmf"/>
  <Override PartName="/ppt/media/image23.jpeg" ContentType="image/jpeg"/>
  <Override PartName="/ppt/media/image8.png" ContentType="image/png"/>
  <Override PartName="/ppt/media/image82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14.png" ContentType="image/png"/>
  <Override PartName="/ppt/media/image62.jpeg" ContentType="image/jpeg"/>
  <Override PartName="/ppt/media/image41.wmf" ContentType="image/x-wmf"/>
  <Override PartName="/ppt/media/image79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5356-6E63-4EB8-9E4A-C5943BD20EE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35FA-7F92-4607-9ACC-56003F6387F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878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D8F3-ADEB-4855-9A01-3A4752C1348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878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B3BD-1D14-41DA-A9EC-DD90F599EAF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31720"/>
            <a:ext cx="77724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98040"/>
            <a:ext cx="77724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331720"/>
            <a:ext cx="3792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331720"/>
            <a:ext cx="3792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98040"/>
            <a:ext cx="3792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98040"/>
            <a:ext cx="3792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331720"/>
            <a:ext cx="250236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331720"/>
            <a:ext cx="250236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331720"/>
            <a:ext cx="250236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98040"/>
            <a:ext cx="250236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98040"/>
            <a:ext cx="250236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98040"/>
            <a:ext cx="250236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331720"/>
            <a:ext cx="77724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331720"/>
            <a:ext cx="77724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331720"/>
            <a:ext cx="3792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331720"/>
            <a:ext cx="3792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25720" y="72720"/>
            <a:ext cx="53640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331720"/>
            <a:ext cx="3792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331720"/>
            <a:ext cx="3792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98040"/>
            <a:ext cx="3792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331720"/>
            <a:ext cx="3792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331720"/>
            <a:ext cx="3792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98040"/>
            <a:ext cx="3792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331720"/>
            <a:ext cx="3792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331720"/>
            <a:ext cx="3792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98040"/>
            <a:ext cx="77724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0" descr=""/>
          <p:cNvPicPr/>
          <p:nvPr/>
        </p:nvPicPr>
        <p:blipFill>
          <a:blip r:embed="rId2"/>
          <a:stretch/>
        </p:blipFill>
        <p:spPr>
          <a:xfrm>
            <a:off x="-3240" y="0"/>
            <a:ext cx="5585040" cy="1173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3"/>
          <p:cNvSpPr/>
          <p:nvPr/>
        </p:nvSpPr>
        <p:spPr>
          <a:xfrm>
            <a:off x="0" y="6308640"/>
            <a:ext cx="9144000" cy="12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6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331720"/>
            <a:ext cx="77724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6"/>
          <p:cNvSpPr/>
          <p:nvPr/>
        </p:nvSpPr>
        <p:spPr>
          <a:xfrm>
            <a:off x="0" y="1144440"/>
            <a:ext cx="9144000" cy="127080"/>
          </a:xfrm>
          <a:prstGeom prst="rect">
            <a:avLst/>
          </a:prstGeom>
          <a:gradFill rotWithShape="0">
            <a:gsLst>
              <a:gs pos="0">
                <a:srgbClr val="00366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1" descr=""/>
          <p:cNvPicPr/>
          <p:nvPr/>
        </p:nvPicPr>
        <p:blipFill>
          <a:blip r:embed="rId3"/>
          <a:stretch/>
        </p:blipFill>
        <p:spPr>
          <a:xfrm>
            <a:off x="8163000" y="162000"/>
            <a:ext cx="768240" cy="763560"/>
          </a:xfrm>
          <a:prstGeom prst="rect">
            <a:avLst/>
          </a:prstGeom>
          <a:ln w="0">
            <a:noFill/>
          </a:ln>
        </p:spPr>
      </p:pic>
      <p:sp>
        <p:nvSpPr>
          <p:cNvPr id="6" name="Line 56"/>
          <p:cNvSpPr/>
          <p:nvPr/>
        </p:nvSpPr>
        <p:spPr>
          <a:xfrm>
            <a:off x="0" y="1093680"/>
            <a:ext cx="9144000" cy="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4" descr=""/>
          <p:cNvPicPr/>
          <p:nvPr/>
        </p:nvPicPr>
        <p:blipFill>
          <a:blip r:embed="rId4"/>
          <a:srcRect l="139" t="9634" r="0" b="14644"/>
          <a:stretch/>
        </p:blipFill>
        <p:spPr>
          <a:xfrm>
            <a:off x="0" y="1095480"/>
            <a:ext cx="6469200" cy="1411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9" descr=""/>
          <p:cNvPicPr/>
          <p:nvPr/>
        </p:nvPicPr>
        <p:blipFill>
          <a:blip r:embed="rId5"/>
          <a:srcRect l="3567" t="9634" r="0" b="14644"/>
          <a:stretch/>
        </p:blipFill>
        <p:spPr>
          <a:xfrm>
            <a:off x="2901960" y="1095480"/>
            <a:ext cx="6246720" cy="14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2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hyperlink" Target="http://www.infoportal.ru/malta/photo/007.Gym.jpg" TargetMode="External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png"/><Relationship Id="rId6" Type="http://schemas.openxmlformats.org/officeDocument/2006/relationships/image" Target="../media/image82.jpeg"/><Relationship Id="rId7" Type="http://schemas.openxmlformats.org/officeDocument/2006/relationships/image" Target="../media/image83.jpeg"/><Relationship Id="rId8" Type="http://schemas.openxmlformats.org/officeDocument/2006/relationships/image" Target="../media/image84.jpeg"/><Relationship Id="rId9" Type="http://schemas.openxmlformats.org/officeDocument/2006/relationships/image" Target="../media/image85.jpe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8.png"/><Relationship Id="rId3" Type="http://schemas.openxmlformats.org/officeDocument/2006/relationships/image" Target="../media/image8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pn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image" Target="../media/image26.jpe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pn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image" Target="../media/image26.jpe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30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A TGI Presentation with emphasis on: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Zahrat Al Khalee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3732120" y="1287360"/>
            <a:ext cx="1643040" cy="1755720"/>
            <a:chOff x="3732120" y="1287360"/>
            <a:chExt cx="1643040" cy="1755720"/>
          </a:xfrm>
        </p:grpSpPr>
        <p:sp>
          <p:nvSpPr>
            <p:cNvPr id="54" name="Rectangle 5"/>
            <p:cNvSpPr/>
            <p:nvPr/>
          </p:nvSpPr>
          <p:spPr>
            <a:xfrm>
              <a:off x="3732120" y="1287360"/>
              <a:ext cx="1643040" cy="1755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6" descr="TGITARG1"/>
            <p:cNvPicPr/>
            <p:nvPr/>
          </p:nvPicPr>
          <p:blipFill>
            <a:blip r:embed="rId1"/>
            <a:stretch/>
          </p:blipFill>
          <p:spPr>
            <a:xfrm>
              <a:off x="3909600" y="1482480"/>
              <a:ext cx="1287720" cy="136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2082960" y="4784760"/>
            <a:ext cx="523692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1400" y="2687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664"/>
                </a:solidFill>
                <a:latin typeface="Arial"/>
              </a:rPr>
              <a:t>In Depth profiling for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003664"/>
                </a:solidFill>
                <a:latin typeface="Arial"/>
              </a:rPr>
              <a:t>Zahrat Al Khalee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5" descr="16725-zam"/>
          <p:cNvPicPr/>
          <p:nvPr/>
        </p:nvPicPr>
        <p:blipFill>
          <a:blip r:embed="rId1"/>
          <a:stretch/>
        </p:blipFill>
        <p:spPr>
          <a:xfrm>
            <a:off x="7045200" y="3600360"/>
            <a:ext cx="1743120" cy="25354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7"/>
          <p:cNvSpPr/>
          <p:nvPr/>
        </p:nvSpPr>
        <p:spPr>
          <a:xfrm>
            <a:off x="2025720" y="73080"/>
            <a:ext cx="5364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Creating target groups in the Arab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06360" y="1519200"/>
            <a:ext cx="4216320" cy="198108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722160" y="1628640"/>
            <a:ext cx="3849840" cy="17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3664"/>
                </a:solidFill>
                <a:uFillTx/>
                <a:latin typeface="Arial"/>
              </a:rPr>
              <a:t>Potential Readers+ Readers of Zahrat Al Khaleej (GC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Read Zahrat Al Khale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Don’t Read + Agree with ‘I cannot     resist buying magazine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3"/>
          <p:cNvGrpSpPr/>
          <p:nvPr/>
        </p:nvGrpSpPr>
        <p:grpSpPr>
          <a:xfrm>
            <a:off x="355680" y="4129200"/>
            <a:ext cx="4216320" cy="2408400"/>
            <a:chOff x="355680" y="4129200"/>
            <a:chExt cx="4216320" cy="2408400"/>
          </a:xfrm>
        </p:grpSpPr>
        <p:sp>
          <p:nvSpPr>
            <p:cNvPr id="250" name="AutoShape 10"/>
            <p:cNvSpPr/>
            <p:nvPr/>
          </p:nvSpPr>
          <p:spPr>
            <a:xfrm>
              <a:off x="355680" y="4129200"/>
              <a:ext cx="4216320" cy="1981080"/>
            </a:xfrm>
            <a:prstGeom prst="roundRect">
              <a:avLst>
                <a:gd name="adj" fmla="val 16667"/>
              </a:avLst>
            </a:prstGeom>
            <a:solidFill>
              <a:srgbClr val="f8b800">
                <a:alpha val="40000"/>
              </a:srgbClr>
            </a:solidFill>
            <a:ln w="28440">
              <a:solidFill>
                <a:srgbClr val="f8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1"/>
            <p:cNvSpPr/>
            <p:nvPr/>
          </p:nvSpPr>
          <p:spPr>
            <a:xfrm>
              <a:off x="743040" y="4338720"/>
              <a:ext cx="3587760" cy="21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 u="sng">
                  <a:solidFill>
                    <a:srgbClr val="003664"/>
                  </a:solidFill>
                  <a:uFillTx/>
                  <a:latin typeface="Arial"/>
                </a:rPr>
                <a:t>Potential Readers +Readers of Zahrat Al Khaleej (Levant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366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664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3664"/>
                  </a:solidFill>
                  <a:latin typeface="Arial"/>
                </a:rPr>
                <a:t>Read Zahrat Al Khale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366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664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3664"/>
                  </a:solidFill>
                  <a:latin typeface="Arial"/>
                </a:rPr>
                <a:t>Don’t Read + Agree with ‘I cannot resist buying magazines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366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AutoShape 25"/>
          <p:cNvSpPr/>
          <p:nvPr/>
        </p:nvSpPr>
        <p:spPr>
          <a:xfrm>
            <a:off x="4735440" y="1535040"/>
            <a:ext cx="1887480" cy="116676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6"/>
          <p:cNvSpPr/>
          <p:nvPr/>
        </p:nvSpPr>
        <p:spPr>
          <a:xfrm>
            <a:off x="4815000" y="1600200"/>
            <a:ext cx="1700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3.4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1.6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7"/>
          <p:cNvSpPr/>
          <p:nvPr/>
        </p:nvSpPr>
        <p:spPr>
          <a:xfrm>
            <a:off x="4735440" y="4137120"/>
            <a:ext cx="1887480" cy="128088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8"/>
          <p:cNvSpPr/>
          <p:nvPr/>
        </p:nvSpPr>
        <p:spPr>
          <a:xfrm>
            <a:off x="4844880" y="4173480"/>
            <a:ext cx="1700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1.6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1.6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2"/>
          <p:cNvSpPr/>
          <p:nvPr/>
        </p:nvSpPr>
        <p:spPr>
          <a:xfrm>
            <a:off x="4751280" y="2879640"/>
            <a:ext cx="1887480" cy="54936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664"/>
                </a:solidFill>
                <a:latin typeface="Arial"/>
              </a:rPr>
              <a:t>5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3" descr="zahralogo"/>
          <p:cNvPicPr/>
          <p:nvPr/>
        </p:nvPicPr>
        <p:blipFill>
          <a:blip r:embed="rId2"/>
          <a:stretch/>
        </p:blipFill>
        <p:spPr>
          <a:xfrm>
            <a:off x="7326360" y="1873080"/>
            <a:ext cx="1143000" cy="61920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34"/>
          <p:cNvSpPr/>
          <p:nvPr/>
        </p:nvSpPr>
        <p:spPr>
          <a:xfrm>
            <a:off x="7286760" y="1841400"/>
            <a:ext cx="1245960" cy="69372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0"/>
          <p:cNvSpPr/>
          <p:nvPr/>
        </p:nvSpPr>
        <p:spPr>
          <a:xfrm flipH="1" flipV="1" rot="15935400">
            <a:off x="7031160" y="3611160"/>
            <a:ext cx="76320" cy="1177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46"/>
          <p:cNvGrpSpPr/>
          <p:nvPr/>
        </p:nvGrpSpPr>
        <p:grpSpPr>
          <a:xfrm>
            <a:off x="6977880" y="3412440"/>
            <a:ext cx="1934280" cy="2753280"/>
            <a:chOff x="6977880" y="3412440"/>
            <a:chExt cx="1934280" cy="2753280"/>
          </a:xfrm>
        </p:grpSpPr>
        <p:sp>
          <p:nvSpPr>
            <p:cNvPr id="261" name="AutoShape 36"/>
            <p:cNvSpPr/>
            <p:nvPr/>
          </p:nvSpPr>
          <p:spPr>
            <a:xfrm>
              <a:off x="7012080" y="3602160"/>
              <a:ext cx="1812960" cy="2563560"/>
            </a:xfrm>
            <a:custGeom>
              <a:avLst/>
              <a:gdLst>
                <a:gd name="textAreaLeft" fmla="*/ 88200 w 1812960"/>
                <a:gd name="textAreaRight" fmla="*/ 1724760 w 1812960"/>
                <a:gd name="textAreaTop" fmla="*/ 88200 h 2563560"/>
                <a:gd name="textAreaBottom" fmla="*/ 2475360 h 2563560"/>
              </a:gdLst>
              <a:ahLst/>
              <a:rect l="textAreaLeft" t="textAreaTop" r="textAreaRight" b="textAreaBottom"/>
              <a:pathLst>
                <a:path w="21600" h="30541">
                  <a:moveTo>
                    <a:pt x="3600" y="0"/>
                  </a:moveTo>
                  <a:arcTo wR="3600" hR="3600" stAng="16200000" swAng="-5400000"/>
                  <a:lnTo>
                    <a:pt x="0" y="26941"/>
                  </a:lnTo>
                  <a:arcTo wR="3600" hR="3600" stAng="10800000" swAng="-5400000"/>
                  <a:lnTo>
                    <a:pt x="18000" y="305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b800">
                <a:alpha val="40000"/>
              </a:srgbClr>
            </a:solidFill>
            <a:ln w="28440">
              <a:solidFill>
                <a:srgbClr val="f8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37"/>
            <p:cNvSpPr/>
            <p:nvPr/>
          </p:nvSpPr>
          <p:spPr>
            <a:xfrm>
              <a:off x="6999120" y="5997600"/>
              <a:ext cx="179640" cy="166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39"/>
            <p:cNvSpPr/>
            <p:nvPr/>
          </p:nvSpPr>
          <p:spPr>
            <a:xfrm flipH="1" flipV="1">
              <a:off x="8593200" y="3543480"/>
              <a:ext cx="318960" cy="249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41"/>
            <p:cNvSpPr/>
            <p:nvPr/>
          </p:nvSpPr>
          <p:spPr>
            <a:xfrm flipH="1" flipV="1" rot="16693800">
              <a:off x="6961680" y="3473640"/>
              <a:ext cx="385560" cy="3020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AutoShape 47"/>
          <p:cNvSpPr/>
          <p:nvPr/>
        </p:nvSpPr>
        <p:spPr>
          <a:xfrm>
            <a:off x="4767120" y="5581800"/>
            <a:ext cx="1887840" cy="54900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664"/>
                </a:solidFill>
                <a:latin typeface="Arial"/>
              </a:rPr>
              <a:t>3.2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8"/>
          <p:cNvSpPr/>
          <p:nvPr/>
        </p:nvSpPr>
        <p:spPr>
          <a:xfrm>
            <a:off x="6886440" y="2065320"/>
            <a:ext cx="2011320" cy="1363680"/>
          </a:xfrm>
          <a:prstGeom prst="wedgeRoundRectCallout">
            <a:avLst>
              <a:gd name="adj1" fmla="val -62472"/>
              <a:gd name="adj2" fmla="val -39291"/>
              <a:gd name="adj3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664"/>
                </a:solidFill>
                <a:latin typeface="Arial"/>
              </a:rPr>
              <a:t>There is</a:t>
            </a:r>
            <a:r>
              <a:rPr b="1" lang="ar-LB" sz="1200" spc="-1" strike="noStrike">
                <a:solidFill>
                  <a:srgbClr val="003664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3664"/>
                </a:solidFill>
                <a:latin typeface="Arial"/>
                <a:ea typeface="Arial"/>
              </a:rPr>
              <a:t> a great potential for growth with 1.6 million people who love to read magazines are not readers of Zahrat Al Khale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51"/>
          <p:cNvGrpSpPr/>
          <p:nvPr/>
        </p:nvGrpSpPr>
        <p:grpSpPr>
          <a:xfrm>
            <a:off x="98280" y="6465960"/>
            <a:ext cx="9083880" cy="398520"/>
            <a:chOff x="98280" y="6465960"/>
            <a:chExt cx="9083880" cy="398520"/>
          </a:xfrm>
        </p:grpSpPr>
        <p:sp>
          <p:nvSpPr>
            <p:cNvPr id="268" name="Text Box 49"/>
            <p:cNvSpPr/>
            <p:nvPr/>
          </p:nvSpPr>
          <p:spPr>
            <a:xfrm>
              <a:off x="98280" y="6465960"/>
              <a:ext cx="4402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ahrat Al Khaleej Readers GCC: n=3,108 (Representing: 3.4 million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50"/>
            <p:cNvSpPr/>
            <p:nvPr/>
          </p:nvSpPr>
          <p:spPr>
            <a:xfrm>
              <a:off x="4898880" y="6465960"/>
              <a:ext cx="4283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ahrat Al Khaleej Readers Levant: n= 997 (Representing: 1.6 million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730080" y="2168640"/>
          <a:ext cx="2978280" cy="42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2168640"/>
                    <a:ext cx="29782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3"/>
          <p:cNvGraphicFramePr/>
          <p:nvPr/>
        </p:nvGraphicFramePr>
        <p:xfrm>
          <a:off x="5075280" y="2184480"/>
          <a:ext cx="3529080" cy="424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5280" y="2184480"/>
                    <a:ext cx="3529080" cy="42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4"/>
          <p:cNvSpPr/>
          <p:nvPr/>
        </p:nvSpPr>
        <p:spPr>
          <a:xfrm>
            <a:off x="3780000" y="1812960"/>
            <a:ext cx="15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664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 flipV="1">
            <a:off x="2340000" y="2436840"/>
            <a:ext cx="0" cy="3959280"/>
          </a:xfrm>
          <a:prstGeom prst="line">
            <a:avLst/>
          </a:prstGeom>
          <a:ln w="34920">
            <a:solidFill>
              <a:srgbClr val="f8b8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 flipH="1" flipV="1">
            <a:off x="6803640" y="2176200"/>
            <a:ext cx="12600" cy="4235400"/>
          </a:xfrm>
          <a:prstGeom prst="line">
            <a:avLst/>
          </a:prstGeom>
          <a:ln w="34920">
            <a:solidFill>
              <a:srgbClr val="f8b8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664080" y="2071800"/>
            <a:ext cx="17859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664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664"/>
                </a:solidFill>
                <a:latin typeface="Arial"/>
              </a:rPr>
              <a:t>Wo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664"/>
                </a:solidFill>
                <a:latin typeface="Arial"/>
              </a:rPr>
              <a:t>15-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664"/>
                </a:solidFill>
                <a:latin typeface="Arial"/>
              </a:rPr>
              <a:t>25-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664"/>
                </a:solidFill>
                <a:latin typeface="Arial"/>
              </a:rPr>
              <a:t>35-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664"/>
                </a:solidFill>
                <a:latin typeface="Arial"/>
              </a:rPr>
              <a:t>45-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664"/>
                </a:solidFill>
                <a:latin typeface="Arial"/>
              </a:rPr>
              <a:t>55-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664"/>
                </a:solidFill>
                <a:latin typeface="Arial"/>
              </a:rPr>
              <a:t>6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664"/>
                </a:solidFill>
                <a:latin typeface="Arial"/>
              </a:rPr>
              <a:t>Class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664"/>
                </a:solidFill>
                <a:latin typeface="Arial"/>
              </a:rPr>
              <a:t>Class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664"/>
                </a:solidFill>
                <a:latin typeface="Arial"/>
              </a:rPr>
              <a:t>Class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664"/>
                </a:solidFill>
                <a:latin typeface="Arial"/>
              </a:rPr>
              <a:t>Class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3231720" y="2227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3132720" y="257184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1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3132720" y="29178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3231720" y="53402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3152880" y="4995720"/>
            <a:ext cx="4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1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132720" y="4633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1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3231720" y="42879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231720" y="3956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3231720" y="3610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3231720" y="3263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5509080" y="22305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1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5509800" y="2587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5509800" y="2932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1"/>
          <p:cNvSpPr/>
          <p:nvPr/>
        </p:nvSpPr>
        <p:spPr>
          <a:xfrm>
            <a:off x="5509080" y="49957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2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2"/>
          <p:cNvSpPr/>
          <p:nvPr/>
        </p:nvSpPr>
        <p:spPr>
          <a:xfrm>
            <a:off x="5509800" y="4665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5509080" y="43084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5509080" y="39783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1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5509080" y="361944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1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5509080" y="534024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1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7"/>
          <p:cNvSpPr/>
          <p:nvPr/>
        </p:nvSpPr>
        <p:spPr>
          <a:xfrm>
            <a:off x="5509080" y="32767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0" y="1233360"/>
            <a:ext cx="9144000" cy="580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rom the graph below we can see that the potential readers for Zahrat Al Khaleej are males, and of the two higher social classes (A &amp;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9"/>
          <p:cNvSpPr/>
          <p:nvPr/>
        </p:nvSpPr>
        <p:spPr>
          <a:xfrm>
            <a:off x="2025720" y="73080"/>
            <a:ext cx="5364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Basic Demographic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0"/>
          <p:cNvSpPr/>
          <p:nvPr/>
        </p:nvSpPr>
        <p:spPr>
          <a:xfrm>
            <a:off x="3848040" y="2903400"/>
            <a:ext cx="1447920" cy="0"/>
          </a:xfrm>
          <a:prstGeom prst="line">
            <a:avLst/>
          </a:prstGeom>
          <a:ln w="9360">
            <a:solidFill>
              <a:srgbClr val="0036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1"/>
          <p:cNvSpPr/>
          <p:nvPr/>
        </p:nvSpPr>
        <p:spPr>
          <a:xfrm>
            <a:off x="3848040" y="4979880"/>
            <a:ext cx="1447920" cy="0"/>
          </a:xfrm>
          <a:prstGeom prst="line">
            <a:avLst/>
          </a:prstGeom>
          <a:ln w="9360">
            <a:solidFill>
              <a:srgbClr val="0036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7"/>
          <p:cNvSpPr/>
          <p:nvPr/>
        </p:nvSpPr>
        <p:spPr>
          <a:xfrm>
            <a:off x="81000" y="2049480"/>
            <a:ext cx="2184480" cy="337320"/>
          </a:xfrm>
          <a:prstGeom prst="rect">
            <a:avLst/>
          </a:prstGeom>
          <a:solidFill>
            <a:srgbClr val="f8b800">
              <a:alpha val="2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Rea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8"/>
          <p:cNvSpPr/>
          <p:nvPr/>
        </p:nvSpPr>
        <p:spPr>
          <a:xfrm>
            <a:off x="7115040" y="2049480"/>
            <a:ext cx="1947960" cy="337320"/>
          </a:xfrm>
          <a:prstGeom prst="rect">
            <a:avLst/>
          </a:prstGeom>
          <a:solidFill>
            <a:srgbClr val="f8b800">
              <a:alpha val="2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Potential Rea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9"/>
          <p:cNvSpPr/>
          <p:nvPr/>
        </p:nvSpPr>
        <p:spPr>
          <a:xfrm>
            <a:off x="3120120" y="5708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1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0"/>
          <p:cNvSpPr/>
          <p:nvPr/>
        </p:nvSpPr>
        <p:spPr>
          <a:xfrm>
            <a:off x="3231720" y="6051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1"/>
          <p:cNvSpPr/>
          <p:nvPr/>
        </p:nvSpPr>
        <p:spPr>
          <a:xfrm>
            <a:off x="5509800" y="56959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2"/>
          <p:cNvSpPr/>
          <p:nvPr/>
        </p:nvSpPr>
        <p:spPr>
          <a:xfrm>
            <a:off x="5509800" y="6051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b800"/>
                </a:solidFill>
                <a:latin typeface="Arial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2"/>
          <p:cNvSpPr/>
          <p:nvPr/>
        </p:nvSpPr>
        <p:spPr>
          <a:xfrm>
            <a:off x="306360" y="2119320"/>
            <a:ext cx="8659800" cy="408132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0" y="12333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ther Demographic Variables that can be included in the stud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74760" y="2316240"/>
            <a:ext cx="90234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Marital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Working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Purchasing 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Languages 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Body Mass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Other Demographic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BMI"/>
          <p:cNvPicPr/>
          <p:nvPr/>
        </p:nvPicPr>
        <p:blipFill>
          <a:blip r:embed="rId1"/>
          <a:stretch/>
        </p:blipFill>
        <p:spPr>
          <a:xfrm>
            <a:off x="6683400" y="2567160"/>
            <a:ext cx="1152360" cy="117792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313" name="Picture 7" descr="Marital"/>
          <p:cNvPicPr/>
          <p:nvPr/>
        </p:nvPicPr>
        <p:blipFill>
          <a:blip r:embed="rId2"/>
          <a:stretch/>
        </p:blipFill>
        <p:spPr>
          <a:xfrm>
            <a:off x="5705640" y="3625920"/>
            <a:ext cx="1096920" cy="109692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314" name="Picture 8" descr="income"/>
          <p:cNvPicPr/>
          <p:nvPr/>
        </p:nvPicPr>
        <p:blipFill>
          <a:blip r:embed="rId3"/>
          <a:stretch/>
        </p:blipFill>
        <p:spPr>
          <a:xfrm>
            <a:off x="6734160" y="4518000"/>
            <a:ext cx="1327320" cy="99540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451080" y="-6228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Your Attitudes, Opinions and Intere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2732040" y="4529160"/>
            <a:ext cx="685800" cy="228600"/>
          </a:xfrm>
          <a:prstGeom prst="rect">
            <a:avLst/>
          </a:prstGeom>
          <a:noFill/>
          <a:ln w="1908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875040" y="4529160"/>
            <a:ext cx="685800" cy="228600"/>
          </a:xfrm>
          <a:prstGeom prst="rect">
            <a:avLst/>
          </a:prstGeom>
          <a:noFill/>
          <a:ln w="1908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018040" y="4529160"/>
            <a:ext cx="762120" cy="228600"/>
          </a:xfrm>
          <a:prstGeom prst="rect">
            <a:avLst/>
          </a:prstGeom>
          <a:noFill/>
          <a:ln w="1908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6389640" y="4529160"/>
            <a:ext cx="762120" cy="228600"/>
          </a:xfrm>
          <a:prstGeom prst="rect">
            <a:avLst/>
          </a:prstGeom>
          <a:noFill/>
          <a:ln w="1908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7684920" y="4529160"/>
            <a:ext cx="762120" cy="228600"/>
          </a:xfrm>
          <a:prstGeom prst="rect">
            <a:avLst/>
          </a:prstGeom>
          <a:noFill/>
          <a:ln w="1908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6240" y="2308320"/>
            <a:ext cx="7445520" cy="985680"/>
          </a:xfrm>
          <a:prstGeom prst="rect">
            <a:avLst/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 would like you to tell us the extent to which you agree or disagree with each statement by marking one of the boxes opposite the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117360" y="4181400"/>
            <a:ext cx="2324160" cy="642600"/>
          </a:xfrm>
          <a:prstGeom prst="rect">
            <a:avLst/>
          </a:prstGeom>
          <a:noFill/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Univers"/>
              </a:rPr>
              <a:t>I like the idea of traveling ab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2427120" y="374796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Definitely A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3684600" y="374796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Tend to A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7456320" y="374796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Definitely Disa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6199200" y="374796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Tend to Disa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4713120" y="37386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Neither Agree nor Disa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9"/>
          <p:cNvSpPr/>
          <p:nvPr/>
        </p:nvSpPr>
        <p:spPr>
          <a:xfrm>
            <a:off x="306360" y="2119320"/>
            <a:ext cx="8659800" cy="408132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0" y="12333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y are more likely to be ad receptive, easily influenced and image consc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74760" y="2316240"/>
            <a:ext cx="90234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I often record a programme on TV then don't get a chance to watch it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         293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I use my credit card mostly for business 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         2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I read daily newspapers more for entertainment than for news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         2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With the credit card I can buy the sort of things I couldn't normally afford       2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My diet is mainly vegetarian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         2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I read the financial pages of my newspaper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         2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I tend to spend money without thinking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         2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If I'm looking for bargains in the shops I always look first in my local paper   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Quite often I find TV advertising more entertaining than the programmes        2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Music is an important part of my life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         2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Who are the potential Zahrat Al Khaleej customer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682640" y="1655640"/>
            <a:ext cx="57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664"/>
                </a:solidFill>
                <a:uFillTx/>
                <a:latin typeface="Arial"/>
              </a:rPr>
              <a:t>Most likely attitude statements to agre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2"/>
          <p:cNvSpPr/>
          <p:nvPr/>
        </p:nvSpPr>
        <p:spPr>
          <a:xfrm>
            <a:off x="306360" y="2147760"/>
            <a:ext cx="8593200" cy="408168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0" y="1233360"/>
            <a:ext cx="9144000" cy="580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y are more likely to be image conscious who like to treat themselves with expensiv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74760" y="2316240"/>
            <a:ext cx="902340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I spend a lot of money on toiletries and cosmetics for personal use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 1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I cant resist expensive perfume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 1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Magazines give me ideas for how to improve my home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 1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I would choose a car mainly on the basis of its looks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 1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My friends are more important to me than my family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 1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With a credit card I spend more than otherwise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 1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I'm tempted to buy products I've seen advertised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 1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Once I find a brand I like I tend to stick to it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 1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To do my shopping by Internet makes my life easier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 1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I read daily newspapers more for entertainment than for news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664"/>
                </a:solidFill>
                <a:latin typeface="Arial"/>
              </a:rPr>
              <a:t>  1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Who are the Zahrat Al Khaleej reader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1682640" y="1727280"/>
            <a:ext cx="57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664"/>
                </a:solidFill>
                <a:uFillTx/>
                <a:latin typeface="Arial"/>
              </a:rPr>
              <a:t>Most likely attitude statements to agre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5"/>
          <p:cNvSpPr/>
          <p:nvPr/>
        </p:nvSpPr>
        <p:spPr>
          <a:xfrm>
            <a:off x="2025720" y="73080"/>
            <a:ext cx="5364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What are their media hab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0" y="1233360"/>
            <a:ext cx="9144000" cy="580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 two groups have contrasting media habits, with the potential readers more likely to be affected by outdoor advert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11"/>
          <p:cNvGrpSpPr/>
          <p:nvPr/>
        </p:nvGrpSpPr>
        <p:grpSpPr>
          <a:xfrm>
            <a:off x="34920" y="1900080"/>
            <a:ext cx="8966160" cy="4470480"/>
            <a:chOff x="34920" y="1900080"/>
            <a:chExt cx="8966160" cy="4470480"/>
          </a:xfrm>
        </p:grpSpPr>
        <p:graphicFrame>
          <p:nvGraphicFramePr>
            <p:cNvPr id="341" name="Object 4"/>
            <p:cNvGraphicFramePr/>
            <p:nvPr/>
          </p:nvGraphicFramePr>
          <p:xfrm>
            <a:off x="34920" y="1900080"/>
            <a:ext cx="8966160" cy="447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920" y="1900080"/>
                      <a:ext cx="8966160" cy="447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3" name="Rectangle 10"/>
            <p:cNvSpPr/>
            <p:nvPr/>
          </p:nvSpPr>
          <p:spPr>
            <a:xfrm>
              <a:off x="4129200" y="6068880"/>
              <a:ext cx="1427040" cy="2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2687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Gaining a greater</a:t>
            </a:r>
            <a:r>
              <a:rPr b="1" lang="en-US" sz="2800" spc="-1" strike="noStrike">
                <a:solidFill>
                  <a:srgbClr val="003664"/>
                </a:solidFill>
                <a:latin typeface="Arial"/>
                <a:ea typeface="Arial"/>
              </a:rPr>
              <a:t> understanding of </a:t>
            </a:r>
            <a:br>
              <a:rPr sz="2800"/>
            </a:br>
            <a:r>
              <a:rPr b="1" lang="en-US" sz="2800" spc="-1" strike="noStrike">
                <a:solidFill>
                  <a:srgbClr val="003664"/>
                </a:solidFill>
                <a:latin typeface="Arial"/>
                <a:ea typeface="Arial"/>
              </a:rPr>
              <a:t>Zahrat Al Khaleej read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1870200" y="74520"/>
            <a:ext cx="61578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Favourite TV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1440" y="12351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y have an array of different channels they are more likely to rate as their favou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9"/>
          <p:cNvSpPr/>
          <p:nvPr/>
        </p:nvSpPr>
        <p:spPr>
          <a:xfrm>
            <a:off x="507960" y="2035080"/>
            <a:ext cx="4291200" cy="382608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674640" y="2263680"/>
            <a:ext cx="4086360" cy="39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Duba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Rotana Ci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Mb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Mb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Al Jaze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3" descr=""/>
          <p:cNvPicPr/>
          <p:nvPr/>
        </p:nvPicPr>
        <p:blipFill>
          <a:blip r:embed="rId1"/>
          <a:stretch/>
        </p:blipFill>
        <p:spPr>
          <a:xfrm>
            <a:off x="6343560" y="2881440"/>
            <a:ext cx="1489320" cy="69372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350" name="Picture 15" descr="ukTv_logo"/>
          <p:cNvPicPr/>
          <p:nvPr/>
        </p:nvPicPr>
        <p:blipFill>
          <a:blip r:embed="rId2"/>
          <a:srcRect l="2175" t="1512" r="3263" b="4535"/>
          <a:stretch/>
        </p:blipFill>
        <p:spPr>
          <a:xfrm>
            <a:off x="7535880" y="3544920"/>
            <a:ext cx="1252440" cy="89532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351" name="Picture 19" descr="_41416234_itvlogo_203"/>
          <p:cNvPicPr/>
          <p:nvPr/>
        </p:nvPicPr>
        <p:blipFill>
          <a:blip r:embed="rId3"/>
          <a:srcRect l="745" t="7210" r="745" b="1989"/>
          <a:stretch/>
        </p:blipFill>
        <p:spPr>
          <a:xfrm>
            <a:off x="6316560" y="4108320"/>
            <a:ext cx="1260720" cy="87012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352" name="Picture 20" descr="radio"/>
          <p:cNvPicPr/>
          <p:nvPr/>
        </p:nvPicPr>
        <p:blipFill>
          <a:blip r:embed="rId4"/>
          <a:stretch/>
        </p:blipFill>
        <p:spPr>
          <a:xfrm>
            <a:off x="5676840" y="5105520"/>
            <a:ext cx="2500200" cy="914400"/>
          </a:xfrm>
          <a:prstGeom prst="rect">
            <a:avLst/>
          </a:prstGeom>
          <a:ln w="38160">
            <a:solidFill>
              <a:srgbClr val="f8b800"/>
            </a:solidFill>
            <a:miter/>
          </a:ln>
        </p:spPr>
      </p:pic>
      <p:sp>
        <p:nvSpPr>
          <p:cNvPr id="353" name="Rectangle 21"/>
          <p:cNvSpPr/>
          <p:nvPr/>
        </p:nvSpPr>
        <p:spPr>
          <a:xfrm>
            <a:off x="6875640" y="5862600"/>
            <a:ext cx="566640" cy="1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3" descr="logo_onetv"/>
          <p:cNvPicPr/>
          <p:nvPr/>
        </p:nvPicPr>
        <p:blipFill>
          <a:blip r:embed="rId5"/>
          <a:stretch/>
        </p:blipFill>
        <p:spPr>
          <a:xfrm>
            <a:off x="6784920" y="1747800"/>
            <a:ext cx="2033640" cy="103680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sp>
        <p:nvSpPr>
          <p:cNvPr id="355" name="Text Box 24"/>
          <p:cNvSpPr/>
          <p:nvPr/>
        </p:nvSpPr>
        <p:spPr>
          <a:xfrm>
            <a:off x="3546360" y="2379600"/>
            <a:ext cx="9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3562200" y="2909880"/>
            <a:ext cx="9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3578400" y="3554280"/>
            <a:ext cx="9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3579840" y="4213080"/>
            <a:ext cx="9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3581280" y="4757760"/>
            <a:ext cx="9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9"/>
          <p:cNvSpPr/>
          <p:nvPr/>
        </p:nvSpPr>
        <p:spPr>
          <a:xfrm>
            <a:off x="3597120" y="5359320"/>
            <a:ext cx="9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0360" y="10944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321"/>
                </a:solidFill>
                <a:latin typeface="Tahoma"/>
              </a:rPr>
              <a:t>Research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04920" y="1305000"/>
            <a:ext cx="624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ruitment: Face-to-Face, at ho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-stage random probability sampl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(detailed methodology available upon reques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one adult respondent (15 yrs+) per house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main s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cio-Economic Profile, Media exposur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Personal Activity Diary and other complex par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administered by intervie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umer information on products and servi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used: self-completion by respondent up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stionnaire Collection: 4 to 5 days after 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Questionnaire - Dont Care"/>
          <p:cNvPicPr/>
          <p:nvPr/>
        </p:nvPicPr>
        <p:blipFill>
          <a:blip r:embed="rId1"/>
          <a:stretch/>
        </p:blipFill>
        <p:spPr>
          <a:xfrm>
            <a:off x="6400800" y="1371600"/>
            <a:ext cx="2286000" cy="2057400"/>
          </a:xfrm>
          <a:prstGeom prst="rect">
            <a:avLst/>
          </a:prstGeom>
          <a:ln w="28440">
            <a:solidFill>
              <a:srgbClr val="654321"/>
            </a:solidFill>
            <a:miter/>
          </a:ln>
        </p:spPr>
      </p:pic>
      <p:pic>
        <p:nvPicPr>
          <p:cNvPr id="60" name="Picture 5" descr="market researcher on the street"/>
          <p:cNvPicPr/>
          <p:nvPr/>
        </p:nvPicPr>
        <p:blipFill>
          <a:blip r:embed="rId2"/>
          <a:stretch/>
        </p:blipFill>
        <p:spPr>
          <a:xfrm>
            <a:off x="6405480" y="3581280"/>
            <a:ext cx="2286000" cy="2057400"/>
          </a:xfrm>
          <a:prstGeom prst="rect">
            <a:avLst/>
          </a:prstGeom>
          <a:ln w="28440">
            <a:solidFill>
              <a:srgbClr val="6543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"/>
          <p:cNvSpPr/>
          <p:nvPr/>
        </p:nvSpPr>
        <p:spPr>
          <a:xfrm>
            <a:off x="1870200" y="74520"/>
            <a:ext cx="61578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Types of TV Programmes</a:t>
            </a:r>
            <a:br>
              <a:rPr sz="2800"/>
            </a:br>
            <a:r>
              <a:rPr b="1" i="1" lang="en-GB" sz="2000" spc="-1" strike="noStrike">
                <a:solidFill>
                  <a:srgbClr val="003664"/>
                </a:solidFill>
                <a:latin typeface="Arial"/>
              </a:rPr>
              <a:t>- Specially choose to watch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1440" y="12351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y are more likely to watch light entertainment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135000" y="1847880"/>
            <a:ext cx="6505560" cy="403524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203040" y="2330280"/>
            <a:ext cx="90234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Mexican Series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Fashion Shows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1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Beauty Pageant Contest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Lebanese Series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Khaleejian Series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1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Egyptian Series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1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Syrian Series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1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House Care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Cooking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4400640" y="18874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664"/>
                </a:solidFill>
                <a:uFillTx/>
                <a:latin typeface="Arial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7" descr="lindaloundermilk"/>
          <p:cNvPicPr/>
          <p:nvPr/>
        </p:nvPicPr>
        <p:blipFill>
          <a:blip r:embed="rId1"/>
          <a:stretch/>
        </p:blipFill>
        <p:spPr>
          <a:xfrm>
            <a:off x="7021440" y="1692360"/>
            <a:ext cx="1741680" cy="173664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367" name="Picture 18" descr="xinsrc_3820902270909937287489"/>
          <p:cNvPicPr/>
          <p:nvPr/>
        </p:nvPicPr>
        <p:blipFill>
          <a:blip r:embed="rId2"/>
          <a:stretch/>
        </p:blipFill>
        <p:spPr>
          <a:xfrm>
            <a:off x="7437600" y="3557520"/>
            <a:ext cx="996840" cy="131616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368" name="Picture 19" descr="alghader"/>
          <p:cNvPicPr/>
          <p:nvPr/>
        </p:nvPicPr>
        <p:blipFill>
          <a:blip r:embed="rId3"/>
          <a:stretch/>
        </p:blipFill>
        <p:spPr>
          <a:xfrm>
            <a:off x="7496280" y="5156280"/>
            <a:ext cx="1047600" cy="101916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1870200" y="74520"/>
            <a:ext cx="61578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Types of internet sites vi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440" y="12351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y are more likely to Health information, music, and play gam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93680" y="2220840"/>
            <a:ext cx="4043520" cy="291168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345960" y="3049560"/>
            <a:ext cx="574848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Health Information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      1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Music \ MP3 Download    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Playing Games Online      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-254160" y="2405160"/>
            <a:ext cx="48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664"/>
                </a:solidFill>
                <a:uFillTx/>
                <a:latin typeface="Arial"/>
              </a:rPr>
              <a:t>More likely to vi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3"/>
          <p:cNvSpPr/>
          <p:nvPr/>
        </p:nvSpPr>
        <p:spPr>
          <a:xfrm>
            <a:off x="4863960" y="2228760"/>
            <a:ext cx="4043520" cy="2911680"/>
          </a:xfrm>
          <a:prstGeom prst="roundRect">
            <a:avLst>
              <a:gd name="adj" fmla="val 16667"/>
            </a:avLst>
          </a:prstGeom>
          <a:solidFill>
            <a:srgbClr val="339966">
              <a:alpha val="40000"/>
            </a:srgbClr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5016600" y="3057480"/>
            <a:ext cx="574812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Cars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    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Sport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   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Weather Forecast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   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4416480" y="2413080"/>
            <a:ext cx="48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664"/>
                </a:solidFill>
                <a:uFillTx/>
                <a:latin typeface="Arial"/>
              </a:rPr>
              <a:t>Less likely to vi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1440" y="12351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y are more likely to read an array of different pub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2027160" y="74520"/>
            <a:ext cx="59785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Radio stations Listen to us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407880" y="1758960"/>
            <a:ext cx="4889520" cy="415620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574560" y="2206800"/>
            <a:ext cx="57484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Radio Al Rabia FM Arabic 107.8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2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Emarat FM (Arabic ) 97.1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2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Abu Dhabi AM (Arabic)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2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Radio France International (English)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2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Dubai AM (Arabic)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2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Abu Dhabi quran Al Kareem 88.2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2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Radio Sawa 90.55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2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3795840" y="1805040"/>
            <a:ext cx="14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664"/>
                </a:solidFill>
                <a:uFillTx/>
                <a:latin typeface="Arial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7" descr="radio"/>
          <p:cNvPicPr/>
          <p:nvPr/>
        </p:nvPicPr>
        <p:blipFill>
          <a:blip r:embed="rId1"/>
          <a:stretch/>
        </p:blipFill>
        <p:spPr>
          <a:xfrm>
            <a:off x="6715080" y="2197080"/>
            <a:ext cx="1538280" cy="153828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383" name="Picture 55" descr="mbc_panorama_meduim"/>
          <p:cNvPicPr/>
          <p:nvPr/>
        </p:nvPicPr>
        <p:blipFill>
          <a:blip r:embed="rId2"/>
          <a:stretch/>
        </p:blipFill>
        <p:spPr>
          <a:xfrm>
            <a:off x="6494400" y="3913200"/>
            <a:ext cx="1430280" cy="95400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384" name="Picture 56" descr="radio_sawa"/>
          <p:cNvPicPr/>
          <p:nvPr/>
        </p:nvPicPr>
        <p:blipFill>
          <a:blip r:embed="rId3"/>
          <a:stretch/>
        </p:blipFill>
        <p:spPr>
          <a:xfrm>
            <a:off x="7494480" y="4681440"/>
            <a:ext cx="1257480" cy="94320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2"/>
          <p:cNvSpPr/>
          <p:nvPr/>
        </p:nvSpPr>
        <p:spPr>
          <a:xfrm>
            <a:off x="4981680" y="2647800"/>
            <a:ext cx="971280" cy="1474920"/>
          </a:xfrm>
          <a:custGeom>
            <a:avLst/>
            <a:gdLst>
              <a:gd name="textAreaLeft" fmla="*/ 47160 w 971280"/>
              <a:gd name="textAreaRight" fmla="*/ 924120 w 971280"/>
              <a:gd name="textAreaTop" fmla="*/ 47160 h 1474920"/>
              <a:gd name="textAreaBottom" fmla="*/ 1427760 h 1474920"/>
            </a:gdLst>
            <a:ahLst/>
            <a:rect l="textAreaLeft" t="textAreaTop" r="textAreaRight" b="textAreaBottom"/>
            <a:pathLst>
              <a:path w="21600" h="32796">
                <a:moveTo>
                  <a:pt x="3600" y="0"/>
                </a:moveTo>
                <a:arcTo wR="3600" hR="3600" stAng="16200000" swAng="-5400000"/>
                <a:lnTo>
                  <a:pt x="0" y="29196"/>
                </a:lnTo>
                <a:arcTo wR="3600" hR="3600" stAng="10800000" swAng="-5400000"/>
                <a:lnTo>
                  <a:pt x="18000" y="32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4981680" y="4352760"/>
            <a:ext cx="971280" cy="1430640"/>
          </a:xfrm>
          <a:custGeom>
            <a:avLst/>
            <a:gdLst>
              <a:gd name="textAreaLeft" fmla="*/ 47160 w 971280"/>
              <a:gd name="textAreaRight" fmla="*/ 924120 w 971280"/>
              <a:gd name="textAreaTop" fmla="*/ 47160 h 1430640"/>
              <a:gd name="textAreaBottom" fmla="*/ 1383480 h 1430640"/>
            </a:gdLst>
            <a:ahLst/>
            <a:rect l="textAreaLeft" t="textAreaTop" r="textAreaRight" b="textAreaBottom"/>
            <a:pathLst>
              <a:path w="21600" h="31812">
                <a:moveTo>
                  <a:pt x="3600" y="0"/>
                </a:moveTo>
                <a:arcTo wR="3600" hR="3600" stAng="16200000" swAng="-5400000"/>
                <a:lnTo>
                  <a:pt x="0" y="28212"/>
                </a:lnTo>
                <a:arcTo wR="3600" hR="3600" stAng="10800000" swAng="-5400000"/>
                <a:lnTo>
                  <a:pt x="18000" y="31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9966">
              <a:alpha val="40000"/>
            </a:srgbClr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-119160" y="1965240"/>
            <a:ext cx="76755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564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564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564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Jewellery Launch</a:t>
            </a: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564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Coffee Shops</a:t>
            </a: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564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Department Stores</a:t>
            </a: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564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564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Business convention</a:t>
            </a: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564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Malls</a:t>
            </a: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564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664"/>
                </a:solidFill>
                <a:latin typeface="Arial"/>
              </a:rPr>
              <a:t>Restaurants</a:t>
            </a: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5"/>
          <p:cNvGrpSpPr/>
          <p:nvPr/>
        </p:nvGrpSpPr>
        <p:grpSpPr>
          <a:xfrm>
            <a:off x="6293160" y="1903320"/>
            <a:ext cx="2442960" cy="2075040"/>
            <a:chOff x="6293160" y="1903320"/>
            <a:chExt cx="2442960" cy="2075040"/>
          </a:xfrm>
        </p:grpSpPr>
        <p:sp>
          <p:nvSpPr>
            <p:cNvPr id="389" name="AutoShape 6"/>
            <p:cNvSpPr/>
            <p:nvPr/>
          </p:nvSpPr>
          <p:spPr>
            <a:xfrm>
              <a:off x="8053560" y="1903320"/>
              <a:ext cx="682560" cy="2075040"/>
            </a:xfrm>
            <a:prstGeom prst="upArrow">
              <a:avLst>
                <a:gd name="adj1" fmla="val 50000"/>
                <a:gd name="adj2" fmla="val 76002"/>
              </a:avLst>
            </a:prstGeom>
            <a:solidFill>
              <a:srgbClr val="f8b800">
                <a:alpha val="40000"/>
              </a:srgbClr>
            </a:solidFill>
            <a:ln w="28440">
              <a:solidFill>
                <a:srgbClr val="f8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7"/>
            <p:cNvSpPr/>
            <p:nvPr/>
          </p:nvSpPr>
          <p:spPr>
            <a:xfrm>
              <a:off x="6293160" y="279396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664"/>
                  </a:solidFill>
                  <a:latin typeface="Arial"/>
                </a:rPr>
                <a:t>More like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8"/>
          <p:cNvGrpSpPr/>
          <p:nvPr/>
        </p:nvGrpSpPr>
        <p:grpSpPr>
          <a:xfrm>
            <a:off x="6379200" y="4205160"/>
            <a:ext cx="2358360" cy="2075040"/>
            <a:chOff x="6379200" y="4205160"/>
            <a:chExt cx="2358360" cy="2075040"/>
          </a:xfrm>
        </p:grpSpPr>
        <p:sp>
          <p:nvSpPr>
            <p:cNvPr id="392" name="AutoShape 9"/>
            <p:cNvSpPr/>
            <p:nvPr/>
          </p:nvSpPr>
          <p:spPr>
            <a:xfrm flipV="1">
              <a:off x="8055000" y="4205160"/>
              <a:ext cx="682560" cy="2075040"/>
            </a:xfrm>
            <a:prstGeom prst="upArrow">
              <a:avLst>
                <a:gd name="adj1" fmla="val 50000"/>
                <a:gd name="adj2" fmla="val 76002"/>
              </a:avLst>
            </a:prstGeom>
            <a:solidFill>
              <a:srgbClr val="339966">
                <a:alpha val="40000"/>
              </a:srgbClr>
            </a:solidFill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0"/>
            <p:cNvSpPr/>
            <p:nvPr/>
          </p:nvSpPr>
          <p:spPr>
            <a:xfrm>
              <a:off x="6379200" y="489744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664"/>
                  </a:solidFill>
                  <a:latin typeface="Arial"/>
                </a:rPr>
                <a:t>Less like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11"/>
          <p:cNvSpPr/>
          <p:nvPr/>
        </p:nvSpPr>
        <p:spPr>
          <a:xfrm>
            <a:off x="1868400" y="73080"/>
            <a:ext cx="6158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Visited in the last 12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0" y="1233360"/>
            <a:ext cx="9144000" cy="580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Zahrat Al Khaleej readers are more likely to have visited Jewellery Launch and coffee shops in the last 12 months and less likely to visit malls, restaurants or business con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1114560" y="1944720"/>
            <a:ext cx="68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664"/>
                </a:solidFill>
                <a:uFillTx/>
                <a:latin typeface="Arial"/>
              </a:rPr>
              <a:t>Visited in the last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4"/>
          <p:cNvSpPr/>
          <p:nvPr/>
        </p:nvSpPr>
        <p:spPr>
          <a:xfrm>
            <a:off x="1868400" y="73080"/>
            <a:ext cx="6158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Readers of Zahrat Al Khaleej are      ad recep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0" y="12333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ttitudinally the group are extremely ad recep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9"/>
          <p:cNvSpPr/>
          <p:nvPr/>
        </p:nvSpPr>
        <p:spPr>
          <a:xfrm>
            <a:off x="430200" y="2066760"/>
            <a:ext cx="4335480" cy="1124280"/>
          </a:xfrm>
          <a:prstGeom prst="wedgeRoundRectCallout">
            <a:avLst>
              <a:gd name="adj1" fmla="val 62523"/>
              <a:gd name="adj2" fmla="val 82203"/>
              <a:gd name="adj3" fmla="val 16667"/>
            </a:avLst>
          </a:prstGeom>
          <a:solidFill>
            <a:srgbClr val="f8b800">
              <a:alpha val="40000"/>
            </a:srgbClr>
          </a:solidFill>
          <a:ln w="1260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On TV I enjoy the adverts as much as the programmes”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1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0"/>
          <p:cNvSpPr/>
          <p:nvPr/>
        </p:nvSpPr>
        <p:spPr>
          <a:xfrm>
            <a:off x="735120" y="4384800"/>
            <a:ext cx="4335480" cy="1123920"/>
          </a:xfrm>
          <a:prstGeom prst="wedgeRoundRectCallout">
            <a:avLst>
              <a:gd name="adj1" fmla="val 56296"/>
              <a:gd name="adj2" fmla="val -96750"/>
              <a:gd name="adj3" fmla="val 16667"/>
            </a:avLst>
          </a:prstGeom>
          <a:solidFill>
            <a:srgbClr val="f8b800">
              <a:alpha val="40000"/>
            </a:srgbClr>
          </a:solidFill>
          <a:ln w="1260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Advertising helps me choose what I buy”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1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3" descr="woman_on_couch_TV_red"/>
          <p:cNvPicPr/>
          <p:nvPr/>
        </p:nvPicPr>
        <p:blipFill>
          <a:blip r:embed="rId1"/>
          <a:stretch/>
        </p:blipFill>
        <p:spPr>
          <a:xfrm>
            <a:off x="5703840" y="2747880"/>
            <a:ext cx="2562120" cy="238140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1868400" y="73080"/>
            <a:ext cx="6158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Advertising is an important factor when deciding on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0" y="12333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vertising plays a key role in their purchasing dec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177840" y="2214720"/>
            <a:ext cx="5711760" cy="388620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2"/>
          <p:cNvSpPr/>
          <p:nvPr/>
        </p:nvSpPr>
        <p:spPr>
          <a:xfrm>
            <a:off x="246240" y="2544840"/>
            <a:ext cx="55465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Video Games Systems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Video Camera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Jeans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1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PC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1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Mobile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664"/>
                </a:solidFill>
                <a:latin typeface="Arial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3"/>
          <p:cNvSpPr/>
          <p:nvPr/>
        </p:nvSpPr>
        <p:spPr>
          <a:xfrm>
            <a:off x="582480" y="1655640"/>
            <a:ext cx="79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664"/>
                </a:solidFill>
                <a:uFillTx/>
                <a:latin typeface="Arial"/>
              </a:rPr>
              <a:t>Advertising as the most important deciding factor when buy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5" descr="newad_home"/>
          <p:cNvPicPr/>
          <p:nvPr/>
        </p:nvPicPr>
        <p:blipFill>
          <a:blip r:embed="rId1"/>
          <a:stretch/>
        </p:blipFill>
        <p:spPr>
          <a:xfrm>
            <a:off x="6215040" y="2343240"/>
            <a:ext cx="2714760" cy="166680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408" name="Picture 18" descr="PC_Case"/>
          <p:cNvPicPr/>
          <p:nvPr/>
        </p:nvPicPr>
        <p:blipFill>
          <a:blip r:embed="rId2"/>
          <a:stretch/>
        </p:blipFill>
        <p:spPr>
          <a:xfrm>
            <a:off x="6670800" y="4232160"/>
            <a:ext cx="2070000" cy="207036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7"/>
          <p:cNvSpPr/>
          <p:nvPr/>
        </p:nvSpPr>
        <p:spPr>
          <a:xfrm>
            <a:off x="236520" y="1789200"/>
            <a:ext cx="4335480" cy="1123920"/>
          </a:xfrm>
          <a:prstGeom prst="wedgeRoundRectCallout">
            <a:avLst>
              <a:gd name="adj1" fmla="val 62523"/>
              <a:gd name="adj2" fmla="val 82203"/>
              <a:gd name="adj3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I look for the lowest possible prices when I go shopping”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1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236520" y="3743280"/>
            <a:ext cx="4335480" cy="1123920"/>
          </a:xfrm>
          <a:prstGeom prst="wedgeRoundRectCallout">
            <a:avLst>
              <a:gd name="adj1" fmla="val 63986"/>
              <a:gd name="adj2" fmla="val -53106"/>
              <a:gd name="adj3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I always look for special offers”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1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1"/>
          <p:cNvSpPr/>
          <p:nvPr/>
        </p:nvSpPr>
        <p:spPr>
          <a:xfrm>
            <a:off x="1868400" y="73080"/>
            <a:ext cx="6158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Always on the look out for               a barga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0" y="12333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 group are constantly looking for the best prices and also looking for special o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3" descr=""/>
          <p:cNvPicPr/>
          <p:nvPr/>
        </p:nvPicPr>
        <p:blipFill>
          <a:blip r:embed="rId1"/>
          <a:srcRect l="22657" t="33102" r="58788" b="30456"/>
          <a:stretch/>
        </p:blipFill>
        <p:spPr>
          <a:xfrm>
            <a:off x="5881680" y="2055960"/>
            <a:ext cx="2173320" cy="319860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sp>
        <p:nvSpPr>
          <p:cNvPr id="414" name="AutoShape 14"/>
          <p:cNvSpPr/>
          <p:nvPr/>
        </p:nvSpPr>
        <p:spPr>
          <a:xfrm>
            <a:off x="961920" y="5551560"/>
            <a:ext cx="7107480" cy="51264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561960" y="561024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Responded to promotions &amp; offers in last 12 month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1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71400" y="2687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360</a:t>
            </a:r>
            <a:r>
              <a:rPr b="1" lang="en-US" sz="2800" spc="-1" strike="noStrike">
                <a:solidFill>
                  <a:srgbClr val="003664"/>
                </a:solidFill>
                <a:latin typeface="Arial"/>
                <a:ea typeface="Arial"/>
              </a:rPr>
              <a:t>° understanding of the Zahrat Al Khaleej read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Life Events</a:t>
            </a:r>
            <a:br>
              <a:rPr sz="2800"/>
            </a:br>
            <a:r>
              <a:rPr b="1" i="1" lang="en-GB" sz="2000" spc="-1" strike="noStrike">
                <a:solidFill>
                  <a:srgbClr val="003664"/>
                </a:solidFill>
                <a:latin typeface="Arial"/>
              </a:rPr>
              <a:t>- Experienced in last 12 months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0" y="1233360"/>
            <a:ext cx="9144000" cy="580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Zahrat Al Khaleej readers seem to be at the beginning of their life, starting a first job, university or getting marr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/>
          <p:cNvSpPr/>
          <p:nvPr/>
        </p:nvSpPr>
        <p:spPr>
          <a:xfrm>
            <a:off x="264960" y="2035080"/>
            <a:ext cx="5699160" cy="382608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431640" y="2549520"/>
            <a:ext cx="5748480" cy="34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Finished school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Birth of second or subsequent child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Start university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Start first job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1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Birth of first child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567320" y="2147760"/>
            <a:ext cx="14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664"/>
                </a:solidFill>
                <a:uFillTx/>
                <a:latin typeface="Arial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4" descr="realestatei0304"/>
          <p:cNvPicPr/>
          <p:nvPr/>
        </p:nvPicPr>
        <p:blipFill>
          <a:blip r:embed="rId1"/>
          <a:stretch/>
        </p:blipFill>
        <p:spPr>
          <a:xfrm>
            <a:off x="7516800" y="3514680"/>
            <a:ext cx="1420920" cy="137628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423" name="Picture 16" descr="HOME_IMPROVEMENT_IMAGE_FOR_SHOWROOM"/>
          <p:cNvPicPr/>
          <p:nvPr/>
        </p:nvPicPr>
        <p:blipFill>
          <a:blip r:embed="rId2"/>
          <a:stretch/>
        </p:blipFill>
        <p:spPr>
          <a:xfrm>
            <a:off x="6305400" y="3787920"/>
            <a:ext cx="1417680" cy="159228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424" name="Picture 74" descr="baby_bob_home"/>
          <p:cNvPicPr/>
          <p:nvPr/>
        </p:nvPicPr>
        <p:blipFill>
          <a:blip r:embed="rId3"/>
          <a:stretch/>
        </p:blipFill>
        <p:spPr>
          <a:xfrm>
            <a:off x="6645240" y="2211480"/>
            <a:ext cx="1355760" cy="157140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8" descr="kiss"/>
          <p:cNvPicPr/>
          <p:nvPr/>
        </p:nvPicPr>
        <p:blipFill>
          <a:blip r:embed="rId1"/>
          <a:stretch/>
        </p:blipFill>
        <p:spPr>
          <a:xfrm>
            <a:off x="6848640" y="2252520"/>
            <a:ext cx="1358640" cy="165420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Life Events</a:t>
            </a:r>
            <a:br>
              <a:rPr sz="2800"/>
            </a:br>
            <a:r>
              <a:rPr b="1" i="1" lang="en-GB" sz="2000" spc="-1" strike="noStrike">
                <a:solidFill>
                  <a:srgbClr val="003664"/>
                </a:solidFill>
                <a:latin typeface="Arial"/>
              </a:rPr>
              <a:t>- Expecting in next 12 months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0" y="1233360"/>
            <a:ext cx="9144000" cy="580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s for their expectations for the next 12 months, Zahrat Al Khaleej readers seem to expect graduating from school and starting a first 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7"/>
          <p:cNvSpPr/>
          <p:nvPr/>
        </p:nvSpPr>
        <p:spPr>
          <a:xfrm>
            <a:off x="264960" y="2035080"/>
            <a:ext cx="5699160" cy="382608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431640" y="2549520"/>
            <a:ext cx="5748480" cy="34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Finished school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1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Start first job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1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Start university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Get married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1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Birth of second or subsequent child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1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4567320" y="2147760"/>
            <a:ext cx="14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664"/>
                </a:solidFill>
                <a:uFillTx/>
                <a:latin typeface="Arial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6" descr="realestatei0304"/>
          <p:cNvPicPr/>
          <p:nvPr/>
        </p:nvPicPr>
        <p:blipFill>
          <a:blip r:embed="rId2"/>
          <a:stretch/>
        </p:blipFill>
        <p:spPr>
          <a:xfrm>
            <a:off x="7516800" y="3514680"/>
            <a:ext cx="1420920" cy="137628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432" name="Picture 19" descr="graduation%20portrait"/>
          <p:cNvPicPr/>
          <p:nvPr/>
        </p:nvPicPr>
        <p:blipFill>
          <a:blip r:embed="rId3"/>
          <a:stretch/>
        </p:blipFill>
        <p:spPr>
          <a:xfrm>
            <a:off x="6305400" y="3768840"/>
            <a:ext cx="1433520" cy="164304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228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321"/>
                </a:solidFill>
                <a:latin typeface="Tahoma"/>
              </a:rPr>
              <a:t>Sampl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572000" y="1905120"/>
            <a:ext cx="426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luster consists of a certain number of Blocks. A Block is defined as a small tract of land outlined by streets or roads and contains houses, buildings etc. which are separated by strips of la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household is the Sample Unit, selected at fixed intervals, along a random path drawn inside the Blocks. A fixed number of interviews are conducted within each sample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152280" y="1219320"/>
            <a:ext cx="350532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c100"/>
              </a:gs>
              <a:gs pos="100000">
                <a:srgbClr val="e6ff00"/>
              </a:gs>
            </a:gsLst>
            <a:lin ang="16200000"/>
          </a:gradFill>
          <a:ln w="9360">
            <a:solidFill>
              <a:srgbClr val="d0e61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Saudi Arabia: 13 Provinc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UAE: 7 Emirat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Kuwait: 6 Region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Lebanon: 5 Region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Jordan: 3 Reg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Syria: 3 Reg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92160" y="2647800"/>
            <a:ext cx="380880" cy="38124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381240"/>
              <a:gd name="textAreaBottom" fmla="*/ 362880 h 381240"/>
            </a:gdLst>
            <a:ahLst/>
            <a:rect l="textAreaLeft" t="textAreaTop" r="textAreaRight" b="textAreaBottom"/>
            <a:pathLst>
              <a:path w="21600" h="21620">
                <a:moveTo>
                  <a:pt x="3600" y="0"/>
                </a:moveTo>
                <a:arcTo wR="3600" hR="3600" stAng="16200000" swAng="-5400000"/>
                <a:lnTo>
                  <a:pt x="0" y="18020"/>
                </a:lnTo>
                <a:arcTo wR="3600" hR="3600" stAng="10800000" swAng="-5400000"/>
                <a:lnTo>
                  <a:pt x="18000" y="21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39500"/>
              </a:gs>
              <a:gs pos="100000">
                <a:srgbClr val="ffc700"/>
              </a:gs>
            </a:gsLst>
            <a:lin ang="16200000"/>
          </a:gradFill>
          <a:ln w="9360">
            <a:solidFill>
              <a:srgbClr val="f9b7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990720" y="2633760"/>
            <a:ext cx="3808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9500"/>
              </a:gs>
              <a:gs pos="100000">
                <a:srgbClr val="ffc700"/>
              </a:gs>
            </a:gsLst>
            <a:lin ang="16200000"/>
          </a:gradFill>
          <a:ln w="9360">
            <a:solidFill>
              <a:srgbClr val="f9b7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33520" y="2633760"/>
            <a:ext cx="3808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9500"/>
              </a:gs>
              <a:gs pos="100000">
                <a:srgbClr val="ffc700"/>
              </a:gs>
            </a:gsLst>
            <a:lin ang="16200000"/>
          </a:gradFill>
          <a:ln w="9360">
            <a:solidFill>
              <a:srgbClr val="f9b7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290760" y="2633760"/>
            <a:ext cx="3812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9500"/>
              </a:gs>
              <a:gs pos="100000">
                <a:srgbClr val="ffc700"/>
              </a:gs>
            </a:gsLst>
            <a:lin ang="16200000"/>
          </a:gradFill>
          <a:ln w="9360">
            <a:solidFill>
              <a:srgbClr val="f9b7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833400" y="3557520"/>
            <a:ext cx="220968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ministr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76320" y="2638440"/>
            <a:ext cx="3808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9500"/>
              </a:gs>
              <a:gs pos="100000">
                <a:srgbClr val="ffc700"/>
              </a:gs>
            </a:gsLst>
            <a:lin ang="16200000"/>
          </a:gradFill>
          <a:ln w="9360">
            <a:solidFill>
              <a:srgbClr val="f9b7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0"/>
          <p:cNvGrpSpPr/>
          <p:nvPr/>
        </p:nvGrpSpPr>
        <p:grpSpPr>
          <a:xfrm>
            <a:off x="299880" y="3016080"/>
            <a:ext cx="1523880" cy="533520"/>
            <a:chOff x="299880" y="3016080"/>
            <a:chExt cx="1523880" cy="533520"/>
          </a:xfrm>
        </p:grpSpPr>
        <p:sp>
          <p:nvSpPr>
            <p:cNvPr id="71" name="Line 11"/>
            <p:cNvSpPr/>
            <p:nvPr/>
          </p:nvSpPr>
          <p:spPr>
            <a:xfrm>
              <a:off x="299880" y="3016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299880" y="33210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1823760" y="3321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14"/>
          <p:cNvSpPr/>
          <p:nvPr/>
        </p:nvSpPr>
        <p:spPr>
          <a:xfrm>
            <a:off x="2043000" y="3152880"/>
            <a:ext cx="2105280" cy="276480"/>
          </a:xfrm>
          <a:prstGeom prst="rect">
            <a:avLst/>
          </a:prstGeom>
          <a:gradFill rotWithShape="0">
            <a:gsLst>
              <a:gs pos="0">
                <a:srgbClr val="ffff86"/>
              </a:gs>
              <a:gs pos="100000">
                <a:srgbClr val="ffffdc"/>
              </a:gs>
            </a:gsLst>
            <a:lin ang="16200000"/>
          </a:gradFill>
          <a:ln w="9360">
            <a:solidFill>
              <a:srgbClr val="d0e6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ch region is broken i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5"/>
          <p:cNvGrpSpPr/>
          <p:nvPr/>
        </p:nvGrpSpPr>
        <p:grpSpPr>
          <a:xfrm>
            <a:off x="1214280" y="4133880"/>
            <a:ext cx="1524240" cy="1143000"/>
            <a:chOff x="1214280" y="4133880"/>
            <a:chExt cx="1524240" cy="1143000"/>
          </a:xfrm>
        </p:grpSpPr>
        <p:sp>
          <p:nvSpPr>
            <p:cNvPr id="76" name="AutoShape 16"/>
            <p:cNvSpPr/>
            <p:nvPr/>
          </p:nvSpPr>
          <p:spPr>
            <a:xfrm>
              <a:off x="1214280" y="4133880"/>
              <a:ext cx="152424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3a174"/>
                </a:gs>
                <a:gs pos="100000">
                  <a:srgbClr val="ffd498"/>
                </a:gs>
              </a:gsLst>
              <a:lin ang="16200000"/>
            </a:gradFill>
            <a:ln w="9360">
              <a:solidFill>
                <a:srgbClr val="f7d3a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17"/>
            <p:cNvGrpSpPr/>
            <p:nvPr/>
          </p:nvGrpSpPr>
          <p:grpSpPr>
            <a:xfrm>
              <a:off x="1263240" y="4183200"/>
              <a:ext cx="1425960" cy="1043280"/>
              <a:chOff x="1263240" y="4183200"/>
              <a:chExt cx="1425960" cy="1043280"/>
            </a:xfrm>
          </p:grpSpPr>
          <p:sp>
            <p:nvSpPr>
              <p:cNvPr id="78" name="AutoShape 18"/>
              <p:cNvSpPr/>
              <p:nvPr/>
            </p:nvSpPr>
            <p:spPr>
              <a:xfrm>
                <a:off x="1263240" y="4183200"/>
                <a:ext cx="689400" cy="49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3a174"/>
                  </a:gs>
                  <a:gs pos="100000">
                    <a:srgbClr val="ffd498"/>
                  </a:gs>
                </a:gsLst>
                <a:lin ang="16200000"/>
              </a:gradFill>
              <a:ln w="9360">
                <a:solidFill>
                  <a:srgbClr val="f7d3a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AutoShape 19"/>
              <p:cNvSpPr/>
              <p:nvPr/>
            </p:nvSpPr>
            <p:spPr>
              <a:xfrm>
                <a:off x="1999800" y="4183200"/>
                <a:ext cx="689400" cy="49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3a174"/>
                  </a:gs>
                  <a:gs pos="100000">
                    <a:srgbClr val="ffd498"/>
                  </a:gs>
                </a:gsLst>
                <a:lin ang="16200000"/>
              </a:gradFill>
              <a:ln w="9360">
                <a:solidFill>
                  <a:srgbClr val="f7d3a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20"/>
              <p:cNvSpPr/>
              <p:nvPr/>
            </p:nvSpPr>
            <p:spPr>
              <a:xfrm>
                <a:off x="1263240" y="4729680"/>
                <a:ext cx="689400" cy="49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3a174"/>
                  </a:gs>
                  <a:gs pos="100000">
                    <a:srgbClr val="ffd498"/>
                  </a:gs>
                </a:gsLst>
                <a:lin ang="16200000"/>
              </a:gradFill>
              <a:ln w="9360">
                <a:solidFill>
                  <a:srgbClr val="f7d3a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21"/>
              <p:cNvSpPr/>
              <p:nvPr/>
            </p:nvSpPr>
            <p:spPr>
              <a:xfrm>
                <a:off x="1999800" y="4729680"/>
                <a:ext cx="689400" cy="49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3a174"/>
                  </a:gs>
                  <a:gs pos="100000">
                    <a:srgbClr val="ffd498"/>
                  </a:gs>
                </a:gsLst>
                <a:lin ang="16200000"/>
              </a:gradFill>
              <a:ln w="9360">
                <a:solidFill>
                  <a:srgbClr val="f7d3a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AutoShape 23"/>
          <p:cNvSpPr/>
          <p:nvPr/>
        </p:nvSpPr>
        <p:spPr>
          <a:xfrm>
            <a:off x="1995480" y="4729320"/>
            <a:ext cx="689040" cy="4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a174"/>
              </a:gs>
              <a:gs pos="100000">
                <a:srgbClr val="ffd498"/>
              </a:gs>
            </a:gsLst>
            <a:lin ang="16200000"/>
          </a:gradFill>
          <a:ln w="9360">
            <a:solidFill>
              <a:srgbClr val="f7d3a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1428840" y="4514760"/>
            <a:ext cx="1066680" cy="333360"/>
          </a:xfrm>
          <a:prstGeom prst="rect">
            <a:avLst/>
          </a:prstGeom>
          <a:gradFill rotWithShape="0">
            <a:gsLst>
              <a:gs pos="0">
                <a:srgbClr val="ffff86"/>
              </a:gs>
              <a:gs pos="100000">
                <a:srgbClr val="ffffdc"/>
              </a:gs>
            </a:gsLst>
            <a:lin ang="16200000"/>
          </a:gradFill>
          <a:ln w="9360">
            <a:solidFill>
              <a:srgbClr val="d0e6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4"/>
          <p:cNvSpPr/>
          <p:nvPr/>
        </p:nvSpPr>
        <p:spPr>
          <a:xfrm>
            <a:off x="1824120" y="3905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5"/>
          <p:cNvSpPr/>
          <p:nvPr/>
        </p:nvSpPr>
        <p:spPr>
          <a:xfrm>
            <a:off x="3038400" y="5143680"/>
            <a:ext cx="609840" cy="22860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6" descr="house-block-small"/>
          <p:cNvPicPr/>
          <p:nvPr/>
        </p:nvPicPr>
        <p:blipFill>
          <a:blip r:embed="rId1"/>
          <a:stretch/>
        </p:blipFill>
        <p:spPr>
          <a:xfrm>
            <a:off x="2730600" y="5511960"/>
            <a:ext cx="380880" cy="334800"/>
          </a:xfrm>
          <a:prstGeom prst="rect">
            <a:avLst/>
          </a:prstGeom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87" name="Picture 27" descr="house-block-small"/>
          <p:cNvPicPr/>
          <p:nvPr/>
        </p:nvPicPr>
        <p:blipFill>
          <a:blip r:embed="rId2"/>
          <a:stretch/>
        </p:blipFill>
        <p:spPr>
          <a:xfrm>
            <a:off x="3166920" y="5514840"/>
            <a:ext cx="381240" cy="335160"/>
          </a:xfrm>
          <a:prstGeom prst="rect">
            <a:avLst/>
          </a:prstGeom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88" name="Picture 28" descr="house-block-small"/>
          <p:cNvPicPr/>
          <p:nvPr/>
        </p:nvPicPr>
        <p:blipFill>
          <a:blip r:embed="rId3"/>
          <a:stretch/>
        </p:blipFill>
        <p:spPr>
          <a:xfrm>
            <a:off x="3595680" y="5514840"/>
            <a:ext cx="380880" cy="335160"/>
          </a:xfrm>
          <a:prstGeom prst="rect">
            <a:avLst/>
          </a:prstGeom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89" name="Picture 29" descr="house-block-small"/>
          <p:cNvPicPr/>
          <p:nvPr/>
        </p:nvPicPr>
        <p:blipFill>
          <a:blip r:embed="rId4"/>
          <a:stretch/>
        </p:blipFill>
        <p:spPr>
          <a:xfrm>
            <a:off x="2719440" y="5904000"/>
            <a:ext cx="380880" cy="334800"/>
          </a:xfrm>
          <a:prstGeom prst="rect">
            <a:avLst/>
          </a:prstGeom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90" name="Picture 30" descr="house-block-small"/>
          <p:cNvPicPr/>
          <p:nvPr/>
        </p:nvPicPr>
        <p:blipFill>
          <a:blip r:embed="rId5"/>
          <a:stretch/>
        </p:blipFill>
        <p:spPr>
          <a:xfrm>
            <a:off x="3147840" y="5891040"/>
            <a:ext cx="381240" cy="335160"/>
          </a:xfrm>
          <a:prstGeom prst="rect">
            <a:avLst/>
          </a:prstGeom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91" name="Picture 31" descr="house-block-small"/>
          <p:cNvPicPr/>
          <p:nvPr/>
        </p:nvPicPr>
        <p:blipFill>
          <a:blip r:embed="rId6"/>
          <a:stretch/>
        </p:blipFill>
        <p:spPr>
          <a:xfrm>
            <a:off x="3583080" y="5883120"/>
            <a:ext cx="380880" cy="335160"/>
          </a:xfrm>
          <a:prstGeom prst="rect">
            <a:avLst/>
          </a:prstGeom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92" name="Rectangle 32"/>
          <p:cNvSpPr/>
          <p:nvPr/>
        </p:nvSpPr>
        <p:spPr>
          <a:xfrm>
            <a:off x="2505240" y="6338880"/>
            <a:ext cx="1676160" cy="304920"/>
          </a:xfrm>
          <a:prstGeom prst="rect">
            <a:avLst/>
          </a:prstGeom>
          <a:gradFill rotWithShape="0">
            <a:gsLst>
              <a:gs pos="0">
                <a:srgbClr val="ffff86"/>
              </a:gs>
              <a:gs pos="100000">
                <a:srgbClr val="ffffdc"/>
              </a:gs>
            </a:gsLst>
            <a:lin ang="16200000"/>
          </a:gradFill>
          <a:ln w="9360">
            <a:solidFill>
              <a:srgbClr val="d0e6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House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3"/>
          <p:cNvSpPr/>
          <p:nvPr/>
        </p:nvSpPr>
        <p:spPr>
          <a:xfrm>
            <a:off x="1433520" y="2638440"/>
            <a:ext cx="17668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9500"/>
              </a:gs>
              <a:gs pos="100000">
                <a:srgbClr val="ffc700"/>
              </a:gs>
            </a:gsLst>
            <a:lin ang="16200000"/>
          </a:gradFill>
          <a:ln w="9360">
            <a:solidFill>
              <a:srgbClr val="f9b7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………………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71045E-006 L 0.03334 0.0444 E">
                                      <p:cBhvr>
                                        <p:cTn id="107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1461960" y="-14400"/>
            <a:ext cx="678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Self perception /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0" y="12333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y have a keen sense of adventure and love to enjoy life and not worry about tomo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320760" y="2916360"/>
            <a:ext cx="4335480" cy="1123920"/>
          </a:xfrm>
          <a:prstGeom prst="wedgeRoundRectCallout">
            <a:avLst>
              <a:gd name="adj1" fmla="val 56629"/>
              <a:gd name="adj2" fmla="val 82203"/>
              <a:gd name="adj3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I have a keen sense of adventure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(index 13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2"/>
          <p:cNvSpPr/>
          <p:nvPr/>
        </p:nvSpPr>
        <p:spPr>
          <a:xfrm>
            <a:off x="536400" y="4818240"/>
            <a:ext cx="4335480" cy="1123920"/>
          </a:xfrm>
          <a:prstGeom prst="wedgeRoundRectCallout">
            <a:avLst>
              <a:gd name="adj1" fmla="val 57907"/>
              <a:gd name="adj2" fmla="val 7060"/>
              <a:gd name="adj3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I like to enjoy life and don't worry about the future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(index 12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3" descr="enjoy_life1024"/>
          <p:cNvPicPr/>
          <p:nvPr/>
        </p:nvPicPr>
        <p:blipFill>
          <a:blip r:embed="rId1"/>
          <a:stretch/>
        </p:blipFill>
        <p:spPr>
          <a:xfrm>
            <a:off x="5051520" y="2460600"/>
            <a:ext cx="3529080" cy="264636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1461960" y="-14400"/>
            <a:ext cx="678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Entertaining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0" y="12333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y are also more likely to enjoy entertaining at home – 60% of Sales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table-setting"/>
          <p:cNvPicPr/>
          <p:nvPr/>
        </p:nvPicPr>
        <p:blipFill>
          <a:blip r:embed="rId1"/>
          <a:stretch/>
        </p:blipFill>
        <p:spPr>
          <a:xfrm>
            <a:off x="5186520" y="2919240"/>
            <a:ext cx="2985840" cy="223380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sp>
        <p:nvSpPr>
          <p:cNvPr id="441" name="AutoShape 5"/>
          <p:cNvSpPr/>
          <p:nvPr/>
        </p:nvSpPr>
        <p:spPr>
          <a:xfrm>
            <a:off x="320760" y="3030480"/>
            <a:ext cx="4335480" cy="1123920"/>
          </a:xfrm>
          <a:prstGeom prst="wedgeRoundRectCallout">
            <a:avLst>
              <a:gd name="adj1" fmla="val 56629"/>
              <a:gd name="adj2" fmla="val 82203"/>
              <a:gd name="adj3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I enjoy entertaining at ho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(index 12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0" y="1233360"/>
            <a:ext cx="9144000" cy="580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 type of sports they practice is probably driven by a desire to improve their general fitness and lose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1162080" y="-1440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Heal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7" descr="running"/>
          <p:cNvPicPr/>
          <p:nvPr/>
        </p:nvPicPr>
        <p:blipFill>
          <a:blip r:embed="rId1"/>
          <a:stretch/>
        </p:blipFill>
        <p:spPr>
          <a:xfrm>
            <a:off x="3295800" y="2863800"/>
            <a:ext cx="1233360" cy="139392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445" name="Picture 8" descr="Gy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871720"/>
            <a:ext cx="1560600" cy="120024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446" name="Picture 9" descr="gym"/>
          <p:cNvPicPr/>
          <p:nvPr/>
        </p:nvPicPr>
        <p:blipFill>
          <a:blip r:embed="rId4"/>
          <a:stretch/>
        </p:blipFill>
        <p:spPr>
          <a:xfrm>
            <a:off x="3287880" y="4118040"/>
            <a:ext cx="1704960" cy="116820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447" name="Picture 10" descr="alc-iron_man-002-body"/>
          <p:cNvPicPr/>
          <p:nvPr/>
        </p:nvPicPr>
        <p:blipFill>
          <a:blip r:embed="rId5"/>
          <a:stretch/>
        </p:blipFill>
        <p:spPr>
          <a:xfrm>
            <a:off x="4916520" y="3753000"/>
            <a:ext cx="1209600" cy="156528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sp>
        <p:nvSpPr>
          <p:cNvPr id="448" name="AutoShape 11"/>
          <p:cNvSpPr/>
          <p:nvPr/>
        </p:nvSpPr>
        <p:spPr>
          <a:xfrm>
            <a:off x="90360" y="1893960"/>
            <a:ext cx="4073760" cy="761760"/>
          </a:xfrm>
          <a:prstGeom prst="wedgeRoundRectCallout">
            <a:avLst>
              <a:gd name="adj1" fmla="val 38388"/>
              <a:gd name="adj2" fmla="val 66875"/>
              <a:gd name="adj3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I use diet food and drinks products”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(131)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2"/>
          <p:cNvSpPr/>
          <p:nvPr/>
        </p:nvSpPr>
        <p:spPr>
          <a:xfrm>
            <a:off x="5041800" y="1863720"/>
            <a:ext cx="4073760" cy="762120"/>
          </a:xfrm>
          <a:prstGeom prst="wedgeRoundRectCallout">
            <a:avLst>
              <a:gd name="adj1" fmla="val -40800"/>
              <a:gd name="adj2" fmla="val 70416"/>
              <a:gd name="adj3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664"/>
                </a:solidFill>
                <a:latin typeface="Arial"/>
              </a:rPr>
              <a:t>I try to include plenty of fiber in my diet these days</a:t>
            </a: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”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(137)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3"/>
          <p:cNvSpPr/>
          <p:nvPr/>
        </p:nvSpPr>
        <p:spPr>
          <a:xfrm>
            <a:off x="71280" y="5519880"/>
            <a:ext cx="4572000" cy="761760"/>
          </a:xfrm>
          <a:prstGeom prst="wedgeRoundRectCallout">
            <a:avLst>
              <a:gd name="adj1" fmla="val 38648"/>
              <a:gd name="adj2" fmla="val -70208"/>
              <a:gd name="adj3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664"/>
                </a:solidFill>
                <a:latin typeface="Arial"/>
              </a:rPr>
              <a:t>I make sure I take regular exercise</a:t>
            </a: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”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(136)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4998960" y="5533920"/>
            <a:ext cx="4073760" cy="762120"/>
          </a:xfrm>
          <a:prstGeom prst="wedgeRoundRectCallout">
            <a:avLst>
              <a:gd name="adj1" fmla="val -30435"/>
              <a:gd name="adj2" fmla="val -68125"/>
              <a:gd name="adj3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I always think of the calories in what I eat”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(131)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7" descr="swimming"/>
          <p:cNvPicPr/>
          <p:nvPr/>
        </p:nvPicPr>
        <p:blipFill>
          <a:blip r:embed="rId1"/>
          <a:stretch/>
        </p:blipFill>
        <p:spPr>
          <a:xfrm>
            <a:off x="6878520" y="3041640"/>
            <a:ext cx="2046240" cy="136368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sp>
        <p:nvSpPr>
          <p:cNvPr id="453" name="AutoShape 12"/>
          <p:cNvSpPr/>
          <p:nvPr/>
        </p:nvSpPr>
        <p:spPr>
          <a:xfrm>
            <a:off x="507960" y="2035080"/>
            <a:ext cx="4873680" cy="382608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680" y="1224000"/>
            <a:ext cx="9144000" cy="580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y are more likely to play a range of different sports, mainly sports intended to improve fitness levels and obtain a good body shape such as Aerob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2016000" y="77760"/>
            <a:ext cx="5364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Top sports regularly 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674640" y="2549520"/>
            <a:ext cx="5748480" cy="40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Horse-Riding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1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Aerobics \ keep fit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1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Swimming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Volleyball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Tennis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3895560" y="2147760"/>
            <a:ext cx="14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664"/>
                </a:solidFill>
                <a:uFillTx/>
                <a:latin typeface="Arial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0" descr="abede"/>
          <p:cNvPicPr/>
          <p:nvPr/>
        </p:nvPicPr>
        <p:blipFill>
          <a:blip r:embed="rId2"/>
          <a:stretch/>
        </p:blipFill>
        <p:spPr>
          <a:xfrm>
            <a:off x="5987880" y="2130480"/>
            <a:ext cx="1301760" cy="207468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459" name="Picture 16" descr="Jeron09"/>
          <p:cNvPicPr/>
          <p:nvPr/>
        </p:nvPicPr>
        <p:blipFill>
          <a:blip r:embed="rId3"/>
          <a:stretch/>
        </p:blipFill>
        <p:spPr>
          <a:xfrm>
            <a:off x="6242040" y="3843360"/>
            <a:ext cx="1198440" cy="186516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Primary source of information – Internet and Newspap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0" y="1233360"/>
            <a:ext cx="9144000" cy="580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 internet and newspapers are primary ways in which Zahrat Al Khaleez readers seek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7" descr="man-woman-pc"/>
          <p:cNvPicPr/>
          <p:nvPr/>
        </p:nvPicPr>
        <p:blipFill>
          <a:blip r:embed="rId1"/>
          <a:stretch/>
        </p:blipFill>
        <p:spPr>
          <a:xfrm>
            <a:off x="5697360" y="2830680"/>
            <a:ext cx="2695680" cy="188748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sp>
        <p:nvSpPr>
          <p:cNvPr id="463" name="AutoShape 8"/>
          <p:cNvSpPr/>
          <p:nvPr/>
        </p:nvSpPr>
        <p:spPr>
          <a:xfrm>
            <a:off x="720720" y="2373480"/>
            <a:ext cx="4335480" cy="1123920"/>
          </a:xfrm>
          <a:prstGeom prst="wedgeRoundRectCallout">
            <a:avLst>
              <a:gd name="adj1" fmla="val 56629"/>
              <a:gd name="adj2" fmla="val 82203"/>
              <a:gd name="adj3" fmla="val 16667"/>
            </a:avLst>
          </a:prstGeom>
          <a:solidFill>
            <a:srgbClr val="f8b800">
              <a:alpha val="40000"/>
            </a:srgbClr>
          </a:solidFill>
          <a:ln w="1260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When I need information, the first place I look is the Internet”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1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9"/>
          <p:cNvSpPr/>
          <p:nvPr/>
        </p:nvSpPr>
        <p:spPr>
          <a:xfrm>
            <a:off x="488880" y="4268880"/>
            <a:ext cx="4335480" cy="1123920"/>
          </a:xfrm>
          <a:prstGeom prst="wedgeRoundRectCallout">
            <a:avLst>
              <a:gd name="adj1" fmla="val 63328"/>
              <a:gd name="adj2" fmla="val -47314"/>
              <a:gd name="adj3" fmla="val 16667"/>
            </a:avLst>
          </a:prstGeom>
          <a:solidFill>
            <a:srgbClr val="f8b800">
              <a:alpha val="40000"/>
            </a:srgbClr>
          </a:solidFill>
          <a:ln w="1260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I rely on newspapers to keep me informed</a:t>
            </a:r>
            <a:r>
              <a:rPr b="0" lang="en-GB" sz="2000" spc="-1" strike="noStrike">
                <a:solidFill>
                  <a:srgbClr val="003664"/>
                </a:solidFill>
                <a:latin typeface="Arial"/>
              </a:rPr>
              <a:t>”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1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8" descr="Reading"/>
          <p:cNvPicPr/>
          <p:nvPr/>
        </p:nvPicPr>
        <p:blipFill>
          <a:blip r:embed="rId1"/>
          <a:stretch/>
        </p:blipFill>
        <p:spPr>
          <a:xfrm>
            <a:off x="3639960" y="1903320"/>
            <a:ext cx="1905120" cy="178776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sp>
        <p:nvSpPr>
          <p:cNvPr id="466" name="Rectangle 2"/>
          <p:cNvSpPr/>
          <p:nvPr/>
        </p:nvSpPr>
        <p:spPr>
          <a:xfrm>
            <a:off x="85680" y="3995640"/>
            <a:ext cx="8815320" cy="2338560"/>
          </a:xfrm>
          <a:prstGeom prst="rect">
            <a:avLst/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-509760" y="4019400"/>
            <a:ext cx="41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Women’s pages </a:t>
            </a:r>
            <a:r>
              <a:rPr b="1" lang="en-GB" sz="1400" spc="-1" strike="noStrike">
                <a:solidFill>
                  <a:srgbClr val="003664"/>
                </a:solidFill>
                <a:latin typeface="Arial"/>
              </a:rPr>
              <a:t>(17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2"/>
          <p:cNvSpPr/>
          <p:nvPr/>
        </p:nvSpPr>
        <p:spPr>
          <a:xfrm>
            <a:off x="2563920" y="4019400"/>
            <a:ext cx="41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Beauty &amp; hair </a:t>
            </a:r>
            <a:r>
              <a:rPr b="1" lang="en-GB" sz="1400" spc="-1" strike="noStrike">
                <a:solidFill>
                  <a:srgbClr val="003664"/>
                </a:solidFill>
                <a:latin typeface="Arial"/>
              </a:rPr>
              <a:t>(17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3"/>
          <p:cNvSpPr/>
          <p:nvPr/>
        </p:nvSpPr>
        <p:spPr>
          <a:xfrm>
            <a:off x="6865920" y="4019400"/>
            <a:ext cx="41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664"/>
                </a:solidFill>
                <a:latin typeface="Arial"/>
              </a:rPr>
              <a:t>Cosmetics </a:t>
            </a:r>
            <a:r>
              <a:rPr b="1" lang="en-GB" sz="1400" spc="-1" strike="noStrike">
                <a:solidFill>
                  <a:srgbClr val="003664"/>
                </a:solidFill>
                <a:latin typeface="Arial"/>
              </a:rPr>
              <a:t>(1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5"/>
          <p:cNvSpPr/>
          <p:nvPr/>
        </p:nvSpPr>
        <p:spPr>
          <a:xfrm>
            <a:off x="2025720" y="73080"/>
            <a:ext cx="5364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0" y="1233360"/>
            <a:ext cx="9144000" cy="580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n terms of newspapers and magazines, they tend to read about Women’s pages, beauty as well as cosme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Choice of Magazine 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4"/>
          <p:cNvSpPr/>
          <p:nvPr/>
        </p:nvSpPr>
        <p:spPr>
          <a:xfrm flipV="1" rot="10800000">
            <a:off x="4300560" y="3529440"/>
            <a:ext cx="542880" cy="44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9" descr="heart-evangelista-womens-health-may-1"/>
          <p:cNvPicPr/>
          <p:nvPr/>
        </p:nvPicPr>
        <p:blipFill>
          <a:blip r:embed="rId2"/>
          <a:stretch/>
        </p:blipFill>
        <p:spPr>
          <a:xfrm>
            <a:off x="387360" y="4530600"/>
            <a:ext cx="933480" cy="120492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475" name="Picture 30" descr="stylemag"/>
          <p:cNvPicPr/>
          <p:nvPr/>
        </p:nvPicPr>
        <p:blipFill>
          <a:blip r:embed="rId3"/>
          <a:stretch/>
        </p:blipFill>
        <p:spPr>
          <a:xfrm>
            <a:off x="1239840" y="4916520"/>
            <a:ext cx="817560" cy="109836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476" name="Picture 31" descr="hair"/>
          <p:cNvPicPr/>
          <p:nvPr/>
        </p:nvPicPr>
        <p:blipFill>
          <a:blip r:embed="rId4"/>
          <a:stretch/>
        </p:blipFill>
        <p:spPr>
          <a:xfrm>
            <a:off x="4159080" y="4668840"/>
            <a:ext cx="824040" cy="115092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477" name="Picture 32" descr="esras"/>
          <p:cNvPicPr/>
          <p:nvPr/>
        </p:nvPicPr>
        <p:blipFill>
          <a:blip r:embed="rId5"/>
          <a:stretch/>
        </p:blipFill>
        <p:spPr>
          <a:xfrm>
            <a:off x="6850080" y="4921200"/>
            <a:ext cx="1341360" cy="44136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478" name="Picture 33" descr="hair"/>
          <p:cNvPicPr/>
          <p:nvPr/>
        </p:nvPicPr>
        <p:blipFill>
          <a:blip r:embed="rId6"/>
          <a:stretch/>
        </p:blipFill>
        <p:spPr>
          <a:xfrm>
            <a:off x="4905360" y="5078520"/>
            <a:ext cx="1028880" cy="102852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479" name="Picture 34" descr="hair-magazines"/>
          <p:cNvPicPr/>
          <p:nvPr/>
        </p:nvPicPr>
        <p:blipFill>
          <a:blip r:embed="rId7"/>
          <a:stretch/>
        </p:blipFill>
        <p:spPr>
          <a:xfrm>
            <a:off x="496800" y="5270400"/>
            <a:ext cx="906480" cy="110484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480" name="Picture 35" descr="cosmetics__165028a"/>
          <p:cNvPicPr/>
          <p:nvPr/>
        </p:nvPicPr>
        <p:blipFill>
          <a:blip r:embed="rId8"/>
          <a:stretch/>
        </p:blipFill>
        <p:spPr>
          <a:xfrm>
            <a:off x="7624800" y="5219640"/>
            <a:ext cx="1069920" cy="63360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  <p:pic>
        <p:nvPicPr>
          <p:cNvPr id="481" name="Picture 36" descr="cosmetics"/>
          <p:cNvPicPr/>
          <p:nvPr/>
        </p:nvPicPr>
        <p:blipFill>
          <a:blip r:embed="rId9"/>
          <a:stretch/>
        </p:blipFill>
        <p:spPr>
          <a:xfrm>
            <a:off x="6923160" y="5418000"/>
            <a:ext cx="780840" cy="584280"/>
          </a:xfrm>
          <a:prstGeom prst="rect">
            <a:avLst/>
          </a:prstGeom>
          <a:ln w="28440">
            <a:solidFill>
              <a:srgbClr val="f8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6"/>
          <p:cNvSpPr/>
          <p:nvPr/>
        </p:nvSpPr>
        <p:spPr>
          <a:xfrm>
            <a:off x="0" y="6153120"/>
            <a:ext cx="914400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64"/>
                </a:solidFill>
                <a:latin typeface="Arial"/>
              </a:rPr>
              <a:t>Perceptual Ma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7" descr="peeee"/>
          <p:cNvPicPr/>
          <p:nvPr/>
        </p:nvPicPr>
        <p:blipFill>
          <a:blip r:embed="rId1"/>
          <a:stretch/>
        </p:blipFill>
        <p:spPr>
          <a:xfrm>
            <a:off x="482760" y="1593720"/>
            <a:ext cx="8350200" cy="4867560"/>
          </a:xfrm>
          <a:prstGeom prst="rect">
            <a:avLst/>
          </a:prstGeom>
          <a:ln w="0">
            <a:noFill/>
          </a:ln>
        </p:spPr>
      </p:pic>
      <p:grpSp>
        <p:nvGrpSpPr>
          <p:cNvPr id="485" name="Group 22"/>
          <p:cNvGrpSpPr/>
          <p:nvPr/>
        </p:nvGrpSpPr>
        <p:grpSpPr>
          <a:xfrm>
            <a:off x="5630760" y="2587680"/>
            <a:ext cx="1618920" cy="1606320"/>
            <a:chOff x="5630760" y="2587680"/>
            <a:chExt cx="1618920" cy="1606320"/>
          </a:xfrm>
        </p:grpSpPr>
        <p:sp>
          <p:nvSpPr>
            <p:cNvPr id="486" name="Line 19"/>
            <p:cNvSpPr/>
            <p:nvPr/>
          </p:nvSpPr>
          <p:spPr>
            <a:xfrm flipV="1">
              <a:off x="5630760" y="2939400"/>
              <a:ext cx="1618920" cy="125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0"/>
            <p:cNvSpPr/>
            <p:nvPr/>
          </p:nvSpPr>
          <p:spPr>
            <a:xfrm flipV="1">
              <a:off x="5630760" y="2587680"/>
              <a:ext cx="874440" cy="1606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21"/>
            <p:cNvSpPr/>
            <p:nvPr/>
          </p:nvSpPr>
          <p:spPr>
            <a:xfrm rot="18438600">
              <a:off x="5672160" y="4020120"/>
              <a:ext cx="123480" cy="921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37"/>
          <p:cNvGrpSpPr/>
          <p:nvPr/>
        </p:nvGrpSpPr>
        <p:grpSpPr>
          <a:xfrm>
            <a:off x="5626080" y="2368440"/>
            <a:ext cx="1214280" cy="3892680"/>
            <a:chOff x="5626080" y="2368440"/>
            <a:chExt cx="1214280" cy="3892680"/>
          </a:xfrm>
        </p:grpSpPr>
        <p:sp>
          <p:nvSpPr>
            <p:cNvPr id="490" name="Line 28"/>
            <p:cNvSpPr/>
            <p:nvPr/>
          </p:nvSpPr>
          <p:spPr>
            <a:xfrm flipV="1">
              <a:off x="5626080" y="2368440"/>
              <a:ext cx="1004760" cy="1803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36"/>
            <p:cNvGrpSpPr/>
            <p:nvPr/>
          </p:nvGrpSpPr>
          <p:grpSpPr>
            <a:xfrm>
              <a:off x="5626080" y="4016520"/>
              <a:ext cx="1214280" cy="2244600"/>
              <a:chOff x="5626080" y="4016520"/>
              <a:chExt cx="1214280" cy="2244600"/>
            </a:xfrm>
          </p:grpSpPr>
          <p:sp>
            <p:nvSpPr>
              <p:cNvPr id="492" name="Line 27"/>
              <p:cNvSpPr/>
              <p:nvPr/>
            </p:nvSpPr>
            <p:spPr>
              <a:xfrm>
                <a:off x="5626080" y="4172040"/>
                <a:ext cx="1214280" cy="2089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33"/>
              <p:cNvSpPr/>
              <p:nvPr/>
            </p:nvSpPr>
            <p:spPr>
              <a:xfrm>
                <a:off x="5626080" y="4016520"/>
                <a:ext cx="209520" cy="29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AutoShape 40"/>
          <p:cNvSpPr/>
          <p:nvPr/>
        </p:nvSpPr>
        <p:spPr>
          <a:xfrm>
            <a:off x="2629080" y="1692360"/>
            <a:ext cx="3213000" cy="2103480"/>
          </a:xfrm>
          <a:prstGeom prst="wedgeRoundRectCallout">
            <a:avLst>
              <a:gd name="adj1" fmla="val 41203"/>
              <a:gd name="adj2" fmla="val 63736"/>
              <a:gd name="adj3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664"/>
                </a:solidFill>
                <a:latin typeface="Arial"/>
              </a:rPr>
              <a:t>Based on the attitude of the readers of weekly magazines, Zahrat Al Khaleej and Sayyidati are  very close to each other. This is shown by the small angle betwee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41"/>
          <p:cNvSpPr/>
          <p:nvPr/>
        </p:nvSpPr>
        <p:spPr>
          <a:xfrm>
            <a:off x="2220840" y="4375080"/>
            <a:ext cx="3095640" cy="1658880"/>
          </a:xfrm>
          <a:prstGeom prst="wedgeRoundRectCallout">
            <a:avLst>
              <a:gd name="adj1" fmla="val 59847"/>
              <a:gd name="adj2" fmla="val -59379"/>
              <a:gd name="adj3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664"/>
                </a:solidFill>
                <a:latin typeface="Arial"/>
                <a:ea typeface="Arial"/>
              </a:rPr>
              <a:t>A large angle implies that the magazines are far apart, example: Zahrat Al Khaleej and Laha magaz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45" descr="map"/>
          <p:cNvPicPr/>
          <p:nvPr/>
        </p:nvPicPr>
        <p:blipFill>
          <a:blip r:embed="rId2"/>
          <a:stretch/>
        </p:blipFill>
        <p:spPr>
          <a:xfrm>
            <a:off x="469800" y="1593720"/>
            <a:ext cx="8361360" cy="48564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47"/>
          <p:cNvSpPr/>
          <p:nvPr/>
        </p:nvSpPr>
        <p:spPr>
          <a:xfrm>
            <a:off x="639720" y="2298600"/>
            <a:ext cx="2573280" cy="1449360"/>
          </a:xfrm>
          <a:prstGeom prst="wedgeRoundRectCallout">
            <a:avLst>
              <a:gd name="adj1" fmla="val -8606"/>
              <a:gd name="adj2" fmla="val 72671"/>
              <a:gd name="adj3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664"/>
                </a:solidFill>
                <a:latin typeface="Arial"/>
              </a:rPr>
              <a:t>This map now reveals which attitudes are closest to which br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GI tells you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71640" y="1238040"/>
            <a:ext cx="7432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to targe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graphics/Product users/Brand users/Media Ow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makes them different from the averag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to target the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" descr=""/>
          <p:cNvPicPr/>
          <p:nvPr/>
        </p:nvPicPr>
        <p:blipFill>
          <a:blip r:embed="rId1"/>
          <a:stretch/>
        </p:blipFill>
        <p:spPr>
          <a:xfrm>
            <a:off x="484200" y="1568520"/>
            <a:ext cx="404640" cy="4014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" descr=""/>
          <p:cNvPicPr/>
          <p:nvPr/>
        </p:nvPicPr>
        <p:blipFill>
          <a:blip r:embed="rId2"/>
          <a:stretch/>
        </p:blipFill>
        <p:spPr>
          <a:xfrm>
            <a:off x="484200" y="3149640"/>
            <a:ext cx="404640" cy="401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6" descr=""/>
          <p:cNvPicPr/>
          <p:nvPr/>
        </p:nvPicPr>
        <p:blipFill>
          <a:blip r:embed="rId3"/>
          <a:stretch/>
        </p:blipFill>
        <p:spPr>
          <a:xfrm>
            <a:off x="484200" y="4773600"/>
            <a:ext cx="404640" cy="40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4"/>
          <p:cNvGrpSpPr/>
          <p:nvPr/>
        </p:nvGrpSpPr>
        <p:grpSpPr>
          <a:xfrm>
            <a:off x="2712960" y="1463760"/>
            <a:ext cx="3674880" cy="3926880"/>
            <a:chOff x="2712960" y="1463760"/>
            <a:chExt cx="3674880" cy="3926880"/>
          </a:xfrm>
        </p:grpSpPr>
        <p:sp>
          <p:nvSpPr>
            <p:cNvPr id="504" name="Rectangle 5"/>
            <p:cNvSpPr/>
            <p:nvPr/>
          </p:nvSpPr>
          <p:spPr>
            <a:xfrm>
              <a:off x="2712960" y="1463760"/>
              <a:ext cx="3674880" cy="39268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Picture 6" descr="TGITARG1"/>
            <p:cNvPicPr/>
            <p:nvPr/>
          </p:nvPicPr>
          <p:blipFill>
            <a:blip r:embed="rId1"/>
            <a:stretch/>
          </p:blipFill>
          <p:spPr>
            <a:xfrm>
              <a:off x="3110400" y="1900080"/>
              <a:ext cx="2880000" cy="305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4637160" y="1281960"/>
            <a:ext cx="4248000" cy="2537640"/>
            <a:chOff x="4637160" y="1281960"/>
            <a:chExt cx="4248000" cy="2537640"/>
          </a:xfrm>
        </p:grpSpPr>
        <p:sp>
          <p:nvSpPr>
            <p:cNvPr id="95" name="AutoShape 3"/>
            <p:cNvSpPr/>
            <p:nvPr/>
          </p:nvSpPr>
          <p:spPr>
            <a:xfrm>
              <a:off x="4637160" y="1282680"/>
              <a:ext cx="4248000" cy="2536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4" descr=""/>
            <p:cNvPicPr/>
            <p:nvPr/>
          </p:nvPicPr>
          <p:blipFill>
            <a:blip r:embed="rId1"/>
            <a:stretch/>
          </p:blipFill>
          <p:spPr>
            <a:xfrm>
              <a:off x="6365880" y="2940120"/>
              <a:ext cx="11826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6437160" y="1371600"/>
              <a:ext cx="22878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6" descr="itv1"/>
            <p:cNvPicPr/>
            <p:nvPr/>
          </p:nvPicPr>
          <p:blipFill>
            <a:blip r:embed="rId2"/>
            <a:stretch/>
          </p:blipFill>
          <p:spPr>
            <a:xfrm>
              <a:off x="5468760" y="2212920"/>
              <a:ext cx="1257480" cy="9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7" descr="gmtv-logo"/>
            <p:cNvPicPr/>
            <p:nvPr/>
          </p:nvPicPr>
          <p:blipFill>
            <a:blip r:embed="rId3"/>
            <a:stretch/>
          </p:blipFill>
          <p:spPr>
            <a:xfrm>
              <a:off x="6635880" y="3257640"/>
              <a:ext cx="666720" cy="4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8" descr="BBC ONE"/>
            <p:cNvPicPr/>
            <p:nvPr/>
          </p:nvPicPr>
          <p:blipFill>
            <a:blip r:embed="rId4"/>
            <a:stretch/>
          </p:blipFill>
          <p:spPr>
            <a:xfrm>
              <a:off x="7878600" y="2772000"/>
              <a:ext cx="64944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9" descr=""/>
            <p:cNvPicPr/>
            <p:nvPr/>
          </p:nvPicPr>
          <p:blipFill>
            <a:blip r:embed="rId5"/>
            <a:srcRect l="8660" t="15539" r="76581" b="75592"/>
            <a:stretch/>
          </p:blipFill>
          <p:spPr>
            <a:xfrm rot="300600">
              <a:off x="7302240" y="2023920"/>
              <a:ext cx="1368360" cy="61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0" descr="28225"/>
            <p:cNvPicPr/>
            <p:nvPr/>
          </p:nvPicPr>
          <p:blipFill>
            <a:blip r:embed="rId6"/>
            <a:stretch/>
          </p:blipFill>
          <p:spPr>
            <a:xfrm>
              <a:off x="7589880" y="3392640"/>
              <a:ext cx="1008000" cy="1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1" descr="mtv-logo"/>
            <p:cNvPicPr/>
            <p:nvPr/>
          </p:nvPicPr>
          <p:blipFill>
            <a:blip r:embed="rId7"/>
            <a:stretch/>
          </p:blipFill>
          <p:spPr>
            <a:xfrm>
              <a:off x="5573520" y="3032280"/>
              <a:ext cx="7192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2" descr="ngeo"/>
            <p:cNvPicPr/>
            <p:nvPr/>
          </p:nvPicPr>
          <p:blipFill>
            <a:blip r:embed="rId8"/>
            <a:stretch/>
          </p:blipFill>
          <p:spPr>
            <a:xfrm>
              <a:off x="4854600" y="2816280"/>
              <a:ext cx="58572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3" descr="Lord%20of%20the%20Rings"/>
            <p:cNvPicPr/>
            <p:nvPr/>
          </p:nvPicPr>
          <p:blipFill>
            <a:blip r:embed="rId9"/>
            <a:stretch/>
          </p:blipFill>
          <p:spPr>
            <a:xfrm>
              <a:off x="5775480" y="1500480"/>
              <a:ext cx="59040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4" descr="prod_full"/>
            <p:cNvPicPr/>
            <p:nvPr/>
          </p:nvPicPr>
          <p:blipFill>
            <a:blip r:embed="rId10"/>
            <a:srcRect l="0" t="43117" r="16087" b="0"/>
            <a:stretch/>
          </p:blipFill>
          <p:spPr>
            <a:xfrm>
              <a:off x="4710240" y="2435400"/>
              <a:ext cx="64764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15" descr="BBC Radio 4 - 92 to 94 FM and 198 Long Wave"/>
            <p:cNvPicPr/>
            <p:nvPr/>
          </p:nvPicPr>
          <p:blipFill>
            <a:blip r:embed="rId11"/>
            <a:srcRect l="0" t="-3996" r="14727" b="0"/>
            <a:stretch/>
          </p:blipFill>
          <p:spPr>
            <a:xfrm>
              <a:off x="7373880" y="1737000"/>
              <a:ext cx="10796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16" descr="01s"/>
            <p:cNvPicPr/>
            <p:nvPr/>
          </p:nvPicPr>
          <p:blipFill>
            <a:blip r:embed="rId12"/>
            <a:stretch/>
          </p:blipFill>
          <p:spPr>
            <a:xfrm>
              <a:off x="6697800" y="1737000"/>
              <a:ext cx="46008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7" descr="testimonials_press_e4logo"/>
            <p:cNvPicPr/>
            <p:nvPr/>
          </p:nvPicPr>
          <p:blipFill>
            <a:blip r:embed="rId13"/>
            <a:srcRect l="8430" t="13441" r="8430" b="7254"/>
            <a:stretch/>
          </p:blipFill>
          <p:spPr>
            <a:xfrm>
              <a:off x="4781520" y="1808280"/>
              <a:ext cx="3888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8" descr="is?852730346182"/>
            <p:cNvPicPr/>
            <p:nvPr/>
          </p:nvPicPr>
          <p:blipFill>
            <a:blip r:embed="rId14"/>
            <a:stretch/>
          </p:blipFill>
          <p:spPr>
            <a:xfrm>
              <a:off x="6797520" y="2600280"/>
              <a:ext cx="79236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9"/>
            <p:cNvSpPr/>
            <p:nvPr/>
          </p:nvSpPr>
          <p:spPr>
            <a:xfrm>
              <a:off x="4710240" y="1281960"/>
              <a:ext cx="102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664"/>
                  </a:solidFill>
                  <a:latin typeface="Arial"/>
                </a:rPr>
                <a:t>Med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20" descr="26-a-17"/>
            <p:cNvPicPr/>
            <p:nvPr/>
          </p:nvPicPr>
          <p:blipFill>
            <a:blip r:embed="rId15"/>
            <a:srcRect l="20141" t="25443" r="62793" b="8412"/>
            <a:stretch/>
          </p:blipFill>
          <p:spPr>
            <a:xfrm>
              <a:off x="5357880" y="1787760"/>
              <a:ext cx="26172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21"/>
          <p:cNvGrpSpPr/>
          <p:nvPr/>
        </p:nvGrpSpPr>
        <p:grpSpPr>
          <a:xfrm>
            <a:off x="252360" y="3979080"/>
            <a:ext cx="4248360" cy="2264040"/>
            <a:chOff x="252360" y="3979080"/>
            <a:chExt cx="4248360" cy="2264040"/>
          </a:xfrm>
        </p:grpSpPr>
        <p:sp>
          <p:nvSpPr>
            <p:cNvPr id="114" name="AutoShape 22"/>
            <p:cNvSpPr/>
            <p:nvPr/>
          </p:nvSpPr>
          <p:spPr>
            <a:xfrm>
              <a:off x="252360" y="4070880"/>
              <a:ext cx="4248360" cy="21722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3"/>
            <p:cNvSpPr/>
            <p:nvPr/>
          </p:nvSpPr>
          <p:spPr>
            <a:xfrm>
              <a:off x="325440" y="4478400"/>
              <a:ext cx="403380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buClr>
                  <a:srgbClr val="00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 “</a:t>
              </a: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I read the financial pages of my newspaper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buClr>
                  <a:srgbClr val="00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 “</a:t>
              </a: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Internet shopping makes life easier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buClr>
                  <a:srgbClr val="00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 “</a:t>
              </a: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You can judge a person by the car they drive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buClr>
                  <a:srgbClr val="00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 “</a:t>
              </a: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I look for profitable ways to invest my money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4"/>
            <p:cNvSpPr/>
            <p:nvPr/>
          </p:nvSpPr>
          <p:spPr>
            <a:xfrm>
              <a:off x="2045160" y="4084920"/>
              <a:ext cx="23220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300+ attitudinal stat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5"/>
            <p:cNvSpPr/>
            <p:nvPr/>
          </p:nvSpPr>
          <p:spPr>
            <a:xfrm>
              <a:off x="396720" y="3979080"/>
              <a:ext cx="171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664"/>
                  </a:solidFill>
                  <a:latin typeface="Arial"/>
                </a:rPr>
                <a:t>Attitu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6"/>
          <p:cNvGrpSpPr/>
          <p:nvPr/>
        </p:nvGrpSpPr>
        <p:grpSpPr>
          <a:xfrm>
            <a:off x="250920" y="1297080"/>
            <a:ext cx="4249800" cy="2573280"/>
            <a:chOff x="250920" y="1297080"/>
            <a:chExt cx="4249800" cy="2573280"/>
          </a:xfrm>
        </p:grpSpPr>
        <p:sp>
          <p:nvSpPr>
            <p:cNvPr id="119" name="AutoShape 27"/>
            <p:cNvSpPr/>
            <p:nvPr/>
          </p:nvSpPr>
          <p:spPr>
            <a:xfrm>
              <a:off x="250920" y="1297080"/>
              <a:ext cx="4248000" cy="257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8"/>
            <p:cNvSpPr/>
            <p:nvPr/>
          </p:nvSpPr>
          <p:spPr>
            <a:xfrm>
              <a:off x="395280" y="1297080"/>
              <a:ext cx="156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664"/>
                  </a:solidFill>
                  <a:latin typeface="Arial"/>
                </a:rPr>
                <a:t>Produ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29" descr="HondaCivic"/>
            <p:cNvPicPr/>
            <p:nvPr/>
          </p:nvPicPr>
          <p:blipFill>
            <a:blip r:embed="rId16"/>
            <a:stretch/>
          </p:blipFill>
          <p:spPr>
            <a:xfrm>
              <a:off x="2787480" y="1606320"/>
              <a:ext cx="160200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30" descr="sony_system"/>
            <p:cNvPicPr/>
            <p:nvPr/>
          </p:nvPicPr>
          <p:blipFill>
            <a:blip r:embed="rId17"/>
            <a:stretch/>
          </p:blipFill>
          <p:spPr>
            <a:xfrm>
              <a:off x="320760" y="1854000"/>
              <a:ext cx="1047600" cy="7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31" descr="computer"/>
            <p:cNvPicPr/>
            <p:nvPr/>
          </p:nvPicPr>
          <p:blipFill>
            <a:blip r:embed="rId18"/>
            <a:stretch/>
          </p:blipFill>
          <p:spPr>
            <a:xfrm>
              <a:off x="1380960" y="1682280"/>
              <a:ext cx="1440000" cy="9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32"/>
            <p:cNvSpPr/>
            <p:nvPr/>
          </p:nvSpPr>
          <p:spPr>
            <a:xfrm>
              <a:off x="2678040" y="1433880"/>
              <a:ext cx="18226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400 product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33" descr="logo_orange"/>
            <p:cNvPicPr/>
            <p:nvPr/>
          </p:nvPicPr>
          <p:blipFill>
            <a:blip r:embed="rId19"/>
            <a:stretch/>
          </p:blipFill>
          <p:spPr>
            <a:xfrm>
              <a:off x="1852560" y="3189600"/>
              <a:ext cx="108108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34" descr="tesco"/>
            <p:cNvPicPr/>
            <p:nvPr/>
          </p:nvPicPr>
          <p:blipFill>
            <a:blip r:embed="rId20"/>
            <a:stretch/>
          </p:blipFill>
          <p:spPr>
            <a:xfrm>
              <a:off x="3132000" y="3262320"/>
              <a:ext cx="116064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35" descr="HSBC Logo"/>
            <p:cNvPicPr/>
            <p:nvPr/>
          </p:nvPicPr>
          <p:blipFill>
            <a:blip r:embed="rId21"/>
            <a:stretch/>
          </p:blipFill>
          <p:spPr>
            <a:xfrm>
              <a:off x="422280" y="3194280"/>
              <a:ext cx="129708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36"/>
            <p:cNvSpPr/>
            <p:nvPr/>
          </p:nvSpPr>
          <p:spPr>
            <a:xfrm>
              <a:off x="2955240" y="2756880"/>
              <a:ext cx="11728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4000 bra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7"/>
            <p:cNvSpPr/>
            <p:nvPr/>
          </p:nvSpPr>
          <p:spPr>
            <a:xfrm>
              <a:off x="382680" y="2615040"/>
              <a:ext cx="156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664"/>
                  </a:solidFill>
                  <a:latin typeface="Arial"/>
                </a:rPr>
                <a:t>Br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8"/>
          <p:cNvGrpSpPr/>
          <p:nvPr/>
        </p:nvGrpSpPr>
        <p:grpSpPr>
          <a:xfrm>
            <a:off x="4643280" y="4038480"/>
            <a:ext cx="4257720" cy="2234880"/>
            <a:chOff x="4643280" y="4038480"/>
            <a:chExt cx="4257720" cy="2234880"/>
          </a:xfrm>
        </p:grpSpPr>
        <p:sp>
          <p:nvSpPr>
            <p:cNvPr id="131" name="AutoShape 39"/>
            <p:cNvSpPr/>
            <p:nvPr/>
          </p:nvSpPr>
          <p:spPr>
            <a:xfrm>
              <a:off x="4643280" y="4056120"/>
              <a:ext cx="4248360" cy="22172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0"/>
            <p:cNvSpPr/>
            <p:nvPr/>
          </p:nvSpPr>
          <p:spPr>
            <a:xfrm>
              <a:off x="4878360" y="4038480"/>
              <a:ext cx="341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664"/>
                  </a:solidFill>
                  <a:latin typeface="Arial"/>
                </a:rPr>
                <a:t>Enhanced Understanding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1"/>
            <p:cNvSpPr/>
            <p:nvPr/>
          </p:nvSpPr>
          <p:spPr>
            <a:xfrm>
              <a:off x="4867200" y="4496040"/>
              <a:ext cx="403380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buClr>
                  <a:srgbClr val="00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Leisure Activ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buClr>
                  <a:srgbClr val="00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Time Di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buClr>
                  <a:srgbClr val="00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Motivation to Purc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buClr>
                  <a:srgbClr val="9933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42"/>
          <p:cNvGrpSpPr/>
          <p:nvPr/>
        </p:nvGrpSpPr>
        <p:grpSpPr>
          <a:xfrm>
            <a:off x="2556000" y="2796480"/>
            <a:ext cx="4032000" cy="2304000"/>
            <a:chOff x="2556000" y="2796480"/>
            <a:chExt cx="4032000" cy="2304000"/>
          </a:xfrm>
        </p:grpSpPr>
        <p:sp>
          <p:nvSpPr>
            <p:cNvPr id="135" name="AutoShape 43"/>
            <p:cNvSpPr/>
            <p:nvPr/>
          </p:nvSpPr>
          <p:spPr>
            <a:xfrm>
              <a:off x="2556000" y="2797200"/>
              <a:ext cx="4032000" cy="23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44"/>
            <p:cNvSpPr/>
            <p:nvPr/>
          </p:nvSpPr>
          <p:spPr>
            <a:xfrm>
              <a:off x="2771640" y="2796480"/>
              <a:ext cx="239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664"/>
                  </a:solidFill>
                  <a:latin typeface="Arial"/>
                </a:rPr>
                <a:t>Demograph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5"/>
            <p:cNvSpPr/>
            <p:nvPr/>
          </p:nvSpPr>
          <p:spPr>
            <a:xfrm>
              <a:off x="4643280" y="3300120"/>
              <a:ext cx="1800000" cy="12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Inco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Reg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Sit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Languages know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Body Mass Ind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46"/>
            <p:cNvSpPr/>
            <p:nvPr/>
          </p:nvSpPr>
          <p:spPr>
            <a:xfrm>
              <a:off x="2698560" y="3300120"/>
              <a:ext cx="201564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S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Marital St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Edu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Working st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Social Classif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Purchasing r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47"/>
          <p:cNvSpPr/>
          <p:nvPr/>
        </p:nvSpPr>
        <p:spPr>
          <a:xfrm>
            <a:off x="2025720" y="73080"/>
            <a:ext cx="5364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What does TGI co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4637160" y="1281960"/>
            <a:ext cx="4248000" cy="2537640"/>
            <a:chOff x="4637160" y="1281960"/>
            <a:chExt cx="4248000" cy="2537640"/>
          </a:xfrm>
        </p:grpSpPr>
        <p:sp>
          <p:nvSpPr>
            <p:cNvPr id="141" name="AutoShape 3"/>
            <p:cNvSpPr/>
            <p:nvPr/>
          </p:nvSpPr>
          <p:spPr>
            <a:xfrm>
              <a:off x="4637160" y="1282680"/>
              <a:ext cx="4248000" cy="2536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4" descr=""/>
            <p:cNvPicPr/>
            <p:nvPr/>
          </p:nvPicPr>
          <p:blipFill>
            <a:blip r:embed="rId1"/>
            <a:stretch/>
          </p:blipFill>
          <p:spPr>
            <a:xfrm>
              <a:off x="6365880" y="2940120"/>
              <a:ext cx="11826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5"/>
            <p:cNvSpPr/>
            <p:nvPr/>
          </p:nvSpPr>
          <p:spPr>
            <a:xfrm>
              <a:off x="6437160" y="1371600"/>
              <a:ext cx="22878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6" descr="itv1"/>
            <p:cNvPicPr/>
            <p:nvPr/>
          </p:nvPicPr>
          <p:blipFill>
            <a:blip r:embed="rId2"/>
            <a:stretch/>
          </p:blipFill>
          <p:spPr>
            <a:xfrm>
              <a:off x="5468760" y="2212920"/>
              <a:ext cx="1257480" cy="9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7" descr="gmtv-logo"/>
            <p:cNvPicPr/>
            <p:nvPr/>
          </p:nvPicPr>
          <p:blipFill>
            <a:blip r:embed="rId3"/>
            <a:stretch/>
          </p:blipFill>
          <p:spPr>
            <a:xfrm>
              <a:off x="6635880" y="3257640"/>
              <a:ext cx="666720" cy="4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8" descr="BBC ONE"/>
            <p:cNvPicPr/>
            <p:nvPr/>
          </p:nvPicPr>
          <p:blipFill>
            <a:blip r:embed="rId4"/>
            <a:stretch/>
          </p:blipFill>
          <p:spPr>
            <a:xfrm>
              <a:off x="7878600" y="2772000"/>
              <a:ext cx="64944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9" descr=""/>
            <p:cNvPicPr/>
            <p:nvPr/>
          </p:nvPicPr>
          <p:blipFill>
            <a:blip r:embed="rId5"/>
            <a:srcRect l="8660" t="15539" r="76581" b="75592"/>
            <a:stretch/>
          </p:blipFill>
          <p:spPr>
            <a:xfrm rot="300600">
              <a:off x="7302240" y="2023920"/>
              <a:ext cx="1368360" cy="61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0" descr="28225"/>
            <p:cNvPicPr/>
            <p:nvPr/>
          </p:nvPicPr>
          <p:blipFill>
            <a:blip r:embed="rId6"/>
            <a:stretch/>
          </p:blipFill>
          <p:spPr>
            <a:xfrm>
              <a:off x="7589880" y="3392640"/>
              <a:ext cx="1008000" cy="1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1" descr="mtv-logo"/>
            <p:cNvPicPr/>
            <p:nvPr/>
          </p:nvPicPr>
          <p:blipFill>
            <a:blip r:embed="rId7"/>
            <a:stretch/>
          </p:blipFill>
          <p:spPr>
            <a:xfrm>
              <a:off x="5573520" y="3032280"/>
              <a:ext cx="7192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2" descr="ngeo"/>
            <p:cNvPicPr/>
            <p:nvPr/>
          </p:nvPicPr>
          <p:blipFill>
            <a:blip r:embed="rId8"/>
            <a:stretch/>
          </p:blipFill>
          <p:spPr>
            <a:xfrm>
              <a:off x="4854600" y="2816280"/>
              <a:ext cx="58572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3" descr="Lord%20of%20the%20Rings"/>
            <p:cNvPicPr/>
            <p:nvPr/>
          </p:nvPicPr>
          <p:blipFill>
            <a:blip r:embed="rId9"/>
            <a:stretch/>
          </p:blipFill>
          <p:spPr>
            <a:xfrm>
              <a:off x="5775480" y="1500480"/>
              <a:ext cx="59040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4" descr="prod_full"/>
            <p:cNvPicPr/>
            <p:nvPr/>
          </p:nvPicPr>
          <p:blipFill>
            <a:blip r:embed="rId10"/>
            <a:srcRect l="0" t="43117" r="16087" b="0"/>
            <a:stretch/>
          </p:blipFill>
          <p:spPr>
            <a:xfrm>
              <a:off x="4710240" y="2435400"/>
              <a:ext cx="64764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5" descr="BBC Radio 4 - 92 to 94 FM and 198 Long Wave"/>
            <p:cNvPicPr/>
            <p:nvPr/>
          </p:nvPicPr>
          <p:blipFill>
            <a:blip r:embed="rId11"/>
            <a:srcRect l="0" t="-3996" r="14727" b="0"/>
            <a:stretch/>
          </p:blipFill>
          <p:spPr>
            <a:xfrm>
              <a:off x="7373880" y="1737000"/>
              <a:ext cx="10796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6" descr="01s"/>
            <p:cNvPicPr/>
            <p:nvPr/>
          </p:nvPicPr>
          <p:blipFill>
            <a:blip r:embed="rId12"/>
            <a:stretch/>
          </p:blipFill>
          <p:spPr>
            <a:xfrm>
              <a:off x="6697800" y="1737000"/>
              <a:ext cx="46008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7" descr="testimonials_press_e4logo"/>
            <p:cNvPicPr/>
            <p:nvPr/>
          </p:nvPicPr>
          <p:blipFill>
            <a:blip r:embed="rId13"/>
            <a:srcRect l="8430" t="13441" r="8430" b="7254"/>
            <a:stretch/>
          </p:blipFill>
          <p:spPr>
            <a:xfrm>
              <a:off x="4781520" y="1808280"/>
              <a:ext cx="3888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8" descr="is?852730346182"/>
            <p:cNvPicPr/>
            <p:nvPr/>
          </p:nvPicPr>
          <p:blipFill>
            <a:blip r:embed="rId14"/>
            <a:stretch/>
          </p:blipFill>
          <p:spPr>
            <a:xfrm>
              <a:off x="6797520" y="2600280"/>
              <a:ext cx="79236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19"/>
            <p:cNvSpPr/>
            <p:nvPr/>
          </p:nvSpPr>
          <p:spPr>
            <a:xfrm>
              <a:off x="4710240" y="1281960"/>
              <a:ext cx="102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664"/>
                  </a:solidFill>
                  <a:latin typeface="Arial"/>
                </a:rPr>
                <a:t>Med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20" descr="26-a-17"/>
            <p:cNvPicPr/>
            <p:nvPr/>
          </p:nvPicPr>
          <p:blipFill>
            <a:blip r:embed="rId15"/>
            <a:srcRect l="20141" t="25443" r="62793" b="8412"/>
            <a:stretch/>
          </p:blipFill>
          <p:spPr>
            <a:xfrm>
              <a:off x="5357880" y="1787760"/>
              <a:ext cx="26172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Group 21"/>
          <p:cNvGrpSpPr/>
          <p:nvPr/>
        </p:nvGrpSpPr>
        <p:grpSpPr>
          <a:xfrm>
            <a:off x="252360" y="3979080"/>
            <a:ext cx="4248360" cy="2264040"/>
            <a:chOff x="252360" y="3979080"/>
            <a:chExt cx="4248360" cy="2264040"/>
          </a:xfrm>
        </p:grpSpPr>
        <p:sp>
          <p:nvSpPr>
            <p:cNvPr id="160" name="AutoShape 22"/>
            <p:cNvSpPr/>
            <p:nvPr/>
          </p:nvSpPr>
          <p:spPr>
            <a:xfrm>
              <a:off x="252360" y="4070880"/>
              <a:ext cx="4248360" cy="21722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3"/>
            <p:cNvSpPr/>
            <p:nvPr/>
          </p:nvSpPr>
          <p:spPr>
            <a:xfrm>
              <a:off x="325440" y="4478400"/>
              <a:ext cx="403380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buClr>
                  <a:srgbClr val="00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 “</a:t>
              </a: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I read the financial pages of my newspaper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buClr>
                  <a:srgbClr val="00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 “</a:t>
              </a: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Internet shopping makes life easier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buClr>
                  <a:srgbClr val="00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 “</a:t>
              </a: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You can judge a person by the car they drive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buClr>
                  <a:srgbClr val="00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 “</a:t>
              </a: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I look for profitable ways to invest my money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4"/>
            <p:cNvSpPr/>
            <p:nvPr/>
          </p:nvSpPr>
          <p:spPr>
            <a:xfrm>
              <a:off x="2045160" y="4084920"/>
              <a:ext cx="23220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300+ attitudinal stat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5"/>
            <p:cNvSpPr/>
            <p:nvPr/>
          </p:nvSpPr>
          <p:spPr>
            <a:xfrm>
              <a:off x="396720" y="3979080"/>
              <a:ext cx="171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664"/>
                  </a:solidFill>
                  <a:latin typeface="Arial"/>
                </a:rPr>
                <a:t>Attitu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6"/>
          <p:cNvGrpSpPr/>
          <p:nvPr/>
        </p:nvGrpSpPr>
        <p:grpSpPr>
          <a:xfrm>
            <a:off x="250920" y="1297080"/>
            <a:ext cx="4249800" cy="2573280"/>
            <a:chOff x="250920" y="1297080"/>
            <a:chExt cx="4249800" cy="2573280"/>
          </a:xfrm>
        </p:grpSpPr>
        <p:sp>
          <p:nvSpPr>
            <p:cNvPr id="165" name="AutoShape 27"/>
            <p:cNvSpPr/>
            <p:nvPr/>
          </p:nvSpPr>
          <p:spPr>
            <a:xfrm>
              <a:off x="250920" y="1297080"/>
              <a:ext cx="4248000" cy="257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8"/>
            <p:cNvSpPr/>
            <p:nvPr/>
          </p:nvSpPr>
          <p:spPr>
            <a:xfrm>
              <a:off x="395280" y="1297080"/>
              <a:ext cx="156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664"/>
                  </a:solidFill>
                  <a:latin typeface="Arial"/>
                </a:rPr>
                <a:t>Produ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29" descr="HondaCivic"/>
            <p:cNvPicPr/>
            <p:nvPr/>
          </p:nvPicPr>
          <p:blipFill>
            <a:blip r:embed="rId16"/>
            <a:stretch/>
          </p:blipFill>
          <p:spPr>
            <a:xfrm>
              <a:off x="2787480" y="1606320"/>
              <a:ext cx="160200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30" descr="sony_system"/>
            <p:cNvPicPr/>
            <p:nvPr/>
          </p:nvPicPr>
          <p:blipFill>
            <a:blip r:embed="rId17"/>
            <a:stretch/>
          </p:blipFill>
          <p:spPr>
            <a:xfrm>
              <a:off x="320760" y="1854000"/>
              <a:ext cx="1047600" cy="7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31" descr="computer"/>
            <p:cNvPicPr/>
            <p:nvPr/>
          </p:nvPicPr>
          <p:blipFill>
            <a:blip r:embed="rId18"/>
            <a:stretch/>
          </p:blipFill>
          <p:spPr>
            <a:xfrm>
              <a:off x="1380960" y="1682280"/>
              <a:ext cx="1440000" cy="9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32"/>
            <p:cNvSpPr/>
            <p:nvPr/>
          </p:nvSpPr>
          <p:spPr>
            <a:xfrm>
              <a:off x="2678040" y="1433880"/>
              <a:ext cx="18226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400 product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33" descr="logo_orange"/>
            <p:cNvPicPr/>
            <p:nvPr/>
          </p:nvPicPr>
          <p:blipFill>
            <a:blip r:embed="rId19"/>
            <a:stretch/>
          </p:blipFill>
          <p:spPr>
            <a:xfrm>
              <a:off x="1852560" y="3189600"/>
              <a:ext cx="108108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34" descr="tesco"/>
            <p:cNvPicPr/>
            <p:nvPr/>
          </p:nvPicPr>
          <p:blipFill>
            <a:blip r:embed="rId20"/>
            <a:stretch/>
          </p:blipFill>
          <p:spPr>
            <a:xfrm>
              <a:off x="3132000" y="3262320"/>
              <a:ext cx="116064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35" descr="HSBC Logo"/>
            <p:cNvPicPr/>
            <p:nvPr/>
          </p:nvPicPr>
          <p:blipFill>
            <a:blip r:embed="rId21"/>
            <a:stretch/>
          </p:blipFill>
          <p:spPr>
            <a:xfrm>
              <a:off x="422280" y="3194280"/>
              <a:ext cx="129708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36"/>
            <p:cNvSpPr/>
            <p:nvPr/>
          </p:nvSpPr>
          <p:spPr>
            <a:xfrm>
              <a:off x="2955240" y="2756880"/>
              <a:ext cx="11728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4000 bra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7"/>
            <p:cNvSpPr/>
            <p:nvPr/>
          </p:nvSpPr>
          <p:spPr>
            <a:xfrm>
              <a:off x="382680" y="2615040"/>
              <a:ext cx="156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664"/>
                  </a:solidFill>
                  <a:latin typeface="Arial"/>
                </a:rPr>
                <a:t>Br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38"/>
          <p:cNvGrpSpPr/>
          <p:nvPr/>
        </p:nvGrpSpPr>
        <p:grpSpPr>
          <a:xfrm>
            <a:off x="4643280" y="4038480"/>
            <a:ext cx="4257720" cy="2234880"/>
            <a:chOff x="4643280" y="4038480"/>
            <a:chExt cx="4257720" cy="2234880"/>
          </a:xfrm>
        </p:grpSpPr>
        <p:sp>
          <p:nvSpPr>
            <p:cNvPr id="177" name="AutoShape 39"/>
            <p:cNvSpPr/>
            <p:nvPr/>
          </p:nvSpPr>
          <p:spPr>
            <a:xfrm>
              <a:off x="4643280" y="4056120"/>
              <a:ext cx="4248360" cy="22172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0"/>
            <p:cNvSpPr/>
            <p:nvPr/>
          </p:nvSpPr>
          <p:spPr>
            <a:xfrm>
              <a:off x="4878360" y="4038480"/>
              <a:ext cx="341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664"/>
                  </a:solidFill>
                  <a:latin typeface="Arial"/>
                </a:rPr>
                <a:t>Enhanced Understanding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1"/>
            <p:cNvSpPr/>
            <p:nvPr/>
          </p:nvSpPr>
          <p:spPr>
            <a:xfrm>
              <a:off x="4867200" y="4496040"/>
              <a:ext cx="403380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buClr>
                  <a:srgbClr val="00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Leisure Activ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buClr>
                  <a:srgbClr val="00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Time Di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buClr>
                  <a:srgbClr val="00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664"/>
                  </a:solidFill>
                  <a:latin typeface="Arial"/>
                </a:rPr>
                <a:t>Motivation to Purc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buClr>
                  <a:srgbClr val="9933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42"/>
          <p:cNvGrpSpPr/>
          <p:nvPr/>
        </p:nvGrpSpPr>
        <p:grpSpPr>
          <a:xfrm>
            <a:off x="2541600" y="2806560"/>
            <a:ext cx="4032360" cy="2303640"/>
            <a:chOff x="2541600" y="2806560"/>
            <a:chExt cx="4032360" cy="2303640"/>
          </a:xfrm>
        </p:grpSpPr>
        <p:sp>
          <p:nvSpPr>
            <p:cNvPr id="181" name="AutoShape 43"/>
            <p:cNvSpPr/>
            <p:nvPr/>
          </p:nvSpPr>
          <p:spPr>
            <a:xfrm>
              <a:off x="2541600" y="2806560"/>
              <a:ext cx="4032360" cy="2303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2976480" y="3093840"/>
              <a:ext cx="3265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3664"/>
                  </a:solidFill>
                  <a:latin typeface="Arial"/>
                </a:rPr>
                <a:t>SINGLE SOURC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45"/>
          <p:cNvSpPr/>
          <p:nvPr/>
        </p:nvSpPr>
        <p:spPr>
          <a:xfrm>
            <a:off x="2025720" y="73080"/>
            <a:ext cx="5364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What does TGI co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4675320" y="1554120"/>
            <a:ext cx="4383000" cy="4572000"/>
          </a:xfrm>
          <a:custGeom>
            <a:avLst/>
            <a:gdLst>
              <a:gd name="textAreaLeft" fmla="*/ 213840 w 4383000"/>
              <a:gd name="textAreaRight" fmla="*/ 4169160 w 4383000"/>
              <a:gd name="textAreaTop" fmla="*/ 213840 h 4572000"/>
              <a:gd name="textAreaBottom" fmla="*/ 4358160 h 4572000"/>
            </a:gdLst>
            <a:ahLst/>
            <a:rect l="textAreaLeft" t="textAreaTop" r="textAreaRight" b="textAreaBottom"/>
            <a:pathLst>
              <a:path w="21600" h="22531">
                <a:moveTo>
                  <a:pt x="3600" y="0"/>
                </a:moveTo>
                <a:arcTo wR="3600" hR="3600" stAng="16200000" swAng="-5400000"/>
                <a:lnTo>
                  <a:pt x="0" y="18931"/>
                </a:lnTo>
                <a:arcTo wR="3600" hR="3600" stAng="10800000" swAng="-5400000"/>
                <a:lnTo>
                  <a:pt x="18000" y="225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366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117360" y="1538280"/>
            <a:ext cx="4442040" cy="4586400"/>
          </a:xfrm>
          <a:custGeom>
            <a:avLst/>
            <a:gdLst>
              <a:gd name="textAreaLeft" fmla="*/ 216720 w 4442040"/>
              <a:gd name="textAreaRight" fmla="*/ 4225320 w 4442040"/>
              <a:gd name="textAreaTop" fmla="*/ 216720 h 4586400"/>
              <a:gd name="textAreaBottom" fmla="*/ 4369680 h 4586400"/>
            </a:gdLst>
            <a:ahLst/>
            <a:rect l="textAreaLeft" t="textAreaTop" r="textAreaRight" b="textAreaBottom"/>
            <a:pathLst>
              <a:path w="21600" h="22302">
                <a:moveTo>
                  <a:pt x="3600" y="0"/>
                </a:moveTo>
                <a:arcTo wR="3600" hR="3600" stAng="16200000" swAng="-5400000"/>
                <a:lnTo>
                  <a:pt x="0" y="18702"/>
                </a:lnTo>
                <a:arcTo wR="3600" hR="3600" stAng="10800000" swAng="-5400000"/>
                <a:lnTo>
                  <a:pt x="18000" y="223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366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Scope of product coverage</a:t>
            </a:r>
            <a:br>
              <a:rPr sz="2800"/>
            </a:b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3664"/>
                </a:solidFill>
                <a:latin typeface="Arial"/>
              </a:rPr>
              <a:t>16 product sectors -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960" y="1752480"/>
            <a:ext cx="47322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45240" indent="-174960">
              <a:spcBef>
                <a:spcPts val="3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orts &amp; Leis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5240" indent="-174960">
              <a:spcBef>
                <a:spcPts val="3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ances &amp; Du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5240" indent="-174960">
              <a:spcBef>
                <a:spcPts val="3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n Alcoholic Dr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5240" indent="-174960">
              <a:spcBef>
                <a:spcPts val="3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et &amp; Salty Sn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5240" indent="-174960">
              <a:spcBef>
                <a:spcPts val="3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5240" indent="-174960">
              <a:spcBef>
                <a:spcPts val="3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sonal Items &amp;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5240" indent="-174960">
              <a:spcBef>
                <a:spcPts val="3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bacco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5240" indent="-174960">
              <a:spcBef>
                <a:spcPts val="3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armaceutical &amp; Chemist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5240" indent="-174960">
              <a:spcBef>
                <a:spcPts val="3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5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4948200" y="1752480"/>
            <a:ext cx="401004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spcBef>
                <a:spcPts val="3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lidays &amp;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3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3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unication &amp;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3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usehold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3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t &amp; Pet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3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iletries &amp; Cosm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3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opping, Retail and 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54160" y="1371600"/>
            <a:ext cx="5122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Holiday in the last 12m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How many holidays in the last 12m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Month holiday be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How much in advance was booking m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Countries/towns visited in local tra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Holiday dest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Countries/towns visited in other parts of th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Total cost of holi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Number of nights a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How holiday was boo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Who was used to book holi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Type of accommod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Main method of tra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Sort of holi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Tour company holiday was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rcRect l="6129" t="3904" r="8376" b="5310"/>
          <a:stretch/>
        </p:blipFill>
        <p:spPr>
          <a:xfrm>
            <a:off x="5297400" y="2530440"/>
            <a:ext cx="3524400" cy="3292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035000" y="69480"/>
            <a:ext cx="6972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Depth of information example</a:t>
            </a:r>
            <a:br>
              <a:rPr sz="2800"/>
            </a:b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3664"/>
                </a:solidFill>
                <a:latin typeface="Arial"/>
              </a:rPr>
              <a:t>Holiday/Travel 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816440" y="1333440"/>
            <a:ext cx="3766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Airlines flown with on holiday/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Travel method used for day tr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Day trip to - countries vis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internet datasho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7920" y="4859280"/>
            <a:ext cx="2660760" cy="1454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PNFB-35D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181320" y="3789360"/>
            <a:ext cx="2759040" cy="83196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4"/>
          <p:cNvGrpSpPr/>
          <p:nvPr/>
        </p:nvGrpSpPr>
        <p:grpSpPr>
          <a:xfrm>
            <a:off x="3116160" y="3429000"/>
            <a:ext cx="2882880" cy="1212480"/>
            <a:chOff x="3116160" y="3429000"/>
            <a:chExt cx="2882880" cy="1212480"/>
          </a:xfrm>
        </p:grpSpPr>
        <p:sp>
          <p:nvSpPr>
            <p:cNvPr id="196" name="AutoShape 5"/>
            <p:cNvSpPr/>
            <p:nvPr/>
          </p:nvSpPr>
          <p:spPr>
            <a:xfrm>
              <a:off x="3116160" y="3429000"/>
              <a:ext cx="2882880" cy="1212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3256560" y="3528000"/>
              <a:ext cx="26136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664"/>
                  </a:solidFill>
                  <a:latin typeface="Arial"/>
                </a:rPr>
                <a:t>Promo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attitu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response to appe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7" descr="billboard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35080" y="5000760"/>
            <a:ext cx="2638440" cy="1233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junk-mail-shot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6197760" y="1300320"/>
            <a:ext cx="2768400" cy="946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reciva_net_radio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6388200" y="2782800"/>
            <a:ext cx="2309760" cy="1540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B0000YOPAC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3219480" y="1477800"/>
            <a:ext cx="2674800" cy="1749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filmReel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209520" y="3241800"/>
            <a:ext cx="2641680" cy="1487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newspapers%20of%20the%20uk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208080" y="1335240"/>
            <a:ext cx="2687400" cy="169704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13"/>
          <p:cNvGrpSpPr/>
          <p:nvPr/>
        </p:nvGrpSpPr>
        <p:grpSpPr>
          <a:xfrm>
            <a:off x="92160" y="1273320"/>
            <a:ext cx="2898720" cy="1817640"/>
            <a:chOff x="92160" y="1273320"/>
            <a:chExt cx="2898720" cy="1817640"/>
          </a:xfrm>
        </p:grpSpPr>
        <p:sp>
          <p:nvSpPr>
            <p:cNvPr id="205" name="AutoShape 14"/>
            <p:cNvSpPr/>
            <p:nvPr/>
          </p:nvSpPr>
          <p:spPr>
            <a:xfrm>
              <a:off x="92160" y="1273320"/>
              <a:ext cx="2898720" cy="1817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5"/>
            <p:cNvSpPr/>
            <p:nvPr/>
          </p:nvSpPr>
          <p:spPr>
            <a:xfrm>
              <a:off x="223920" y="1386000"/>
              <a:ext cx="2647800" cy="16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664"/>
                  </a:solidFill>
                  <a:latin typeface="Arial"/>
                </a:rPr>
                <a:t>P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newspap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magaz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more than 200 tit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recency &amp; freque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topics of inter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6"/>
          <p:cNvGrpSpPr/>
          <p:nvPr/>
        </p:nvGrpSpPr>
        <p:grpSpPr>
          <a:xfrm>
            <a:off x="92160" y="3192480"/>
            <a:ext cx="2898720" cy="1209600"/>
            <a:chOff x="92160" y="3192480"/>
            <a:chExt cx="2898720" cy="1209600"/>
          </a:xfrm>
        </p:grpSpPr>
        <p:sp>
          <p:nvSpPr>
            <p:cNvPr id="208" name="AutoShape 17"/>
            <p:cNvSpPr/>
            <p:nvPr/>
          </p:nvSpPr>
          <p:spPr>
            <a:xfrm>
              <a:off x="92160" y="3192480"/>
              <a:ext cx="2898720" cy="120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8"/>
            <p:cNvSpPr/>
            <p:nvPr/>
          </p:nvSpPr>
          <p:spPr>
            <a:xfrm>
              <a:off x="222480" y="3267000"/>
              <a:ext cx="264924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664"/>
                  </a:solidFill>
                  <a:latin typeface="Arial"/>
                </a:rPr>
                <a:t>Cin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recency &amp; freque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heavy/medium/l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2"/>
          <p:cNvGrpSpPr/>
          <p:nvPr/>
        </p:nvGrpSpPr>
        <p:grpSpPr>
          <a:xfrm>
            <a:off x="3108240" y="1285920"/>
            <a:ext cx="2898720" cy="1936800"/>
            <a:chOff x="3108240" y="1285920"/>
            <a:chExt cx="2898720" cy="1936800"/>
          </a:xfrm>
        </p:grpSpPr>
        <p:sp>
          <p:nvSpPr>
            <p:cNvPr id="211" name="AutoShape 23"/>
            <p:cNvSpPr/>
            <p:nvPr/>
          </p:nvSpPr>
          <p:spPr>
            <a:xfrm>
              <a:off x="3108240" y="1285920"/>
              <a:ext cx="2898720" cy="193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4"/>
            <p:cNvSpPr/>
            <p:nvPr/>
          </p:nvSpPr>
          <p:spPr>
            <a:xfrm>
              <a:off x="3225600" y="1435680"/>
              <a:ext cx="2690280" cy="16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664"/>
                  </a:solidFill>
                  <a:latin typeface="Arial"/>
                </a:rPr>
                <a:t>T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hours spent watching T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channels watch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1st/2nd/3rd favourite            chann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day part by chann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6145200" y="2641680"/>
            <a:ext cx="2898720" cy="1744560"/>
            <a:chOff x="6145200" y="2641680"/>
            <a:chExt cx="2898720" cy="1744560"/>
          </a:xfrm>
        </p:grpSpPr>
        <p:sp>
          <p:nvSpPr>
            <p:cNvPr id="214" name="AutoShape 26"/>
            <p:cNvSpPr/>
            <p:nvPr/>
          </p:nvSpPr>
          <p:spPr>
            <a:xfrm>
              <a:off x="6145200" y="2641680"/>
              <a:ext cx="2898720" cy="1744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27"/>
            <p:cNvSpPr/>
            <p:nvPr/>
          </p:nvSpPr>
          <p:spPr>
            <a:xfrm>
              <a:off x="6257880" y="2741760"/>
              <a:ext cx="2655720" cy="13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664"/>
                  </a:solidFill>
                  <a:latin typeface="Arial"/>
                </a:rPr>
                <a:t>Rad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hours listened by d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stations listened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types of program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weight of listening by s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8"/>
          <p:cNvGrpSpPr/>
          <p:nvPr/>
        </p:nvGrpSpPr>
        <p:grpSpPr>
          <a:xfrm>
            <a:off x="100080" y="4626000"/>
            <a:ext cx="2898720" cy="1693440"/>
            <a:chOff x="100080" y="4626000"/>
            <a:chExt cx="2898720" cy="1693440"/>
          </a:xfrm>
        </p:grpSpPr>
        <p:sp>
          <p:nvSpPr>
            <p:cNvPr id="217" name="AutoShape 29"/>
            <p:cNvSpPr/>
            <p:nvPr/>
          </p:nvSpPr>
          <p:spPr>
            <a:xfrm>
              <a:off x="100080" y="4626000"/>
              <a:ext cx="2898720" cy="1693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0"/>
            <p:cNvSpPr/>
            <p:nvPr/>
          </p:nvSpPr>
          <p:spPr>
            <a:xfrm>
              <a:off x="184320" y="4781520"/>
              <a:ext cx="2743200" cy="13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664"/>
                  </a:solidFill>
                  <a:latin typeface="Arial"/>
                </a:rPr>
                <a:t>Outd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posters seen in last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use of 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statements of aware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1"/>
          <p:cNvGrpSpPr/>
          <p:nvPr/>
        </p:nvGrpSpPr>
        <p:grpSpPr>
          <a:xfrm>
            <a:off x="6145200" y="4657680"/>
            <a:ext cx="2898720" cy="1657440"/>
            <a:chOff x="6145200" y="4657680"/>
            <a:chExt cx="2898720" cy="1657440"/>
          </a:xfrm>
        </p:grpSpPr>
        <p:sp>
          <p:nvSpPr>
            <p:cNvPr id="220" name="AutoShape 32"/>
            <p:cNvSpPr/>
            <p:nvPr/>
          </p:nvSpPr>
          <p:spPr>
            <a:xfrm>
              <a:off x="6145200" y="4657680"/>
              <a:ext cx="2898720" cy="1657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3"/>
            <p:cNvSpPr/>
            <p:nvPr/>
          </p:nvSpPr>
          <p:spPr>
            <a:xfrm>
              <a:off x="6216480" y="4840200"/>
              <a:ext cx="2743200" cy="12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664"/>
                  </a:solidFill>
                  <a:latin typeface="Arial"/>
                </a:rPr>
                <a:t>Media Neutral Quint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media neutral 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TV, radio, newspaper, outdoor, magazines, internet, cin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4"/>
          <p:cNvGrpSpPr/>
          <p:nvPr/>
        </p:nvGrpSpPr>
        <p:grpSpPr>
          <a:xfrm>
            <a:off x="3124080" y="4815000"/>
            <a:ext cx="2898720" cy="1523880"/>
            <a:chOff x="3124080" y="4815000"/>
            <a:chExt cx="2898720" cy="1523880"/>
          </a:xfrm>
        </p:grpSpPr>
        <p:sp>
          <p:nvSpPr>
            <p:cNvPr id="223" name="AutoShape 35"/>
            <p:cNvSpPr/>
            <p:nvPr/>
          </p:nvSpPr>
          <p:spPr>
            <a:xfrm>
              <a:off x="3124080" y="4815000"/>
              <a:ext cx="2898720" cy="1523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6"/>
            <p:cNvSpPr/>
            <p:nvPr/>
          </p:nvSpPr>
          <p:spPr>
            <a:xfrm>
              <a:off x="3241440" y="4932720"/>
              <a:ext cx="2690280" cy="13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664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frequency/location of 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types of si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ISPs us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activities whilst on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37"/>
          <p:cNvSpPr/>
          <p:nvPr/>
        </p:nvSpPr>
        <p:spPr>
          <a:xfrm>
            <a:off x="2025720" y="73080"/>
            <a:ext cx="5364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664"/>
                </a:solidFill>
                <a:latin typeface="Arial"/>
              </a:rPr>
              <a:t>Media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38"/>
          <p:cNvGrpSpPr/>
          <p:nvPr/>
        </p:nvGrpSpPr>
        <p:grpSpPr>
          <a:xfrm>
            <a:off x="6116760" y="1295280"/>
            <a:ext cx="2898720" cy="1201680"/>
            <a:chOff x="6116760" y="1295280"/>
            <a:chExt cx="2898720" cy="1201680"/>
          </a:xfrm>
        </p:grpSpPr>
        <p:sp>
          <p:nvSpPr>
            <p:cNvPr id="227" name="AutoShape 39"/>
            <p:cNvSpPr/>
            <p:nvPr/>
          </p:nvSpPr>
          <p:spPr>
            <a:xfrm>
              <a:off x="6116760" y="1295280"/>
              <a:ext cx="2898720" cy="1201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40"/>
            <p:cNvSpPr/>
            <p:nvPr/>
          </p:nvSpPr>
          <p:spPr>
            <a:xfrm>
              <a:off x="6201000" y="1405440"/>
              <a:ext cx="274320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664"/>
                  </a:solidFill>
                  <a:latin typeface="Arial"/>
                </a:rPr>
                <a:t>Ind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posters seen in last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use of 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664"/>
                  </a:solidFill>
                  <a:latin typeface="Arial"/>
                </a:rPr>
                <a:t>statements of aware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3664"/>
                </a:buClr>
                <a:buFont typeface="Arial"/>
                <a:buChar char="•"/>
                <a:tabLst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4865760" y="1978200"/>
            <a:ext cx="419076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nefits for the advertiser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Understanding your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and those of your competi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plete perspective of consumers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ing existing and new users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dentifying new product opportunities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ross- brand promotion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nsuring the most effective use of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your advertising expend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571680" y="1922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o to targ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28520" y="13824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64"/>
                </a:solidFill>
                <a:latin typeface="Arial"/>
              </a:rPr>
              <a:t>With TGI we know</a:t>
            </a:r>
            <a:r>
              <a:rPr b="1" lang="en-US" sz="2800" spc="-1" strike="noStrike">
                <a:solidFill>
                  <a:srgbClr val="003664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5"/>
          <p:cNvSpPr/>
          <p:nvPr/>
        </p:nvSpPr>
        <p:spPr>
          <a:xfrm>
            <a:off x="4729320" y="1658880"/>
            <a:ext cx="4244760" cy="4519800"/>
          </a:xfrm>
          <a:custGeom>
            <a:avLst/>
            <a:gdLst>
              <a:gd name="textAreaLeft" fmla="*/ 207000 w 4244760"/>
              <a:gd name="textAreaRight" fmla="*/ 4037760 w 4244760"/>
              <a:gd name="textAreaTop" fmla="*/ 207000 h 4519800"/>
              <a:gd name="textAreaBottom" fmla="*/ 4312800 h 4519800"/>
            </a:gdLst>
            <a:ahLst/>
            <a:rect l="textAreaLeft" t="textAreaTop" r="textAreaRight" b="textAreaBottom"/>
            <a:pathLst>
              <a:path w="21600" h="22999">
                <a:moveTo>
                  <a:pt x="3600" y="0"/>
                </a:moveTo>
                <a:arcTo wR="3600" hR="3600" stAng="16200000" swAng="-5400000"/>
                <a:lnTo>
                  <a:pt x="0" y="19399"/>
                </a:lnTo>
                <a:arcTo wR="3600" hR="3600" stAng="10800000" swAng="-5400000"/>
                <a:lnTo>
                  <a:pt x="18000" y="22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5068800" y="2117880"/>
            <a:ext cx="4191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Benefits for the advertiser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66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 </a:t>
            </a: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Understanding your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664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 </a:t>
            </a: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and those of your compet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664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 </a:t>
            </a: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complete perspective of consumers</a:t>
            </a:r>
            <a:br>
              <a:rPr sz="1600"/>
            </a:b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66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 </a:t>
            </a: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Targeting existing and new users</a:t>
            </a:r>
            <a:br>
              <a:rPr sz="1600"/>
            </a:b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66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 </a:t>
            </a: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Identifying new product opportunities</a:t>
            </a:r>
            <a:br>
              <a:rPr sz="1600"/>
            </a:b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66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 </a:t>
            </a: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Cross- brand promotion</a:t>
            </a:r>
            <a:br>
              <a:rPr sz="1600"/>
            </a:b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66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 </a:t>
            </a: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Ensuring the most effective use of</a:t>
            </a:r>
            <a:br>
              <a:rPr sz="1600"/>
            </a:br>
            <a:r>
              <a:rPr b="1" lang="en-GB" sz="1600" spc="-1" strike="noStrike" u="sng">
                <a:solidFill>
                  <a:srgbClr val="003664"/>
                </a:solidFill>
                <a:uFillTx/>
                <a:latin typeface="Arial"/>
              </a:rPr>
              <a:t>  your advertising expendi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614520" y="1978200"/>
            <a:ext cx="3174840" cy="44424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8"/>
          <p:cNvSpPr/>
          <p:nvPr/>
        </p:nvSpPr>
        <p:spPr>
          <a:xfrm>
            <a:off x="588960" y="4645080"/>
            <a:ext cx="3174840" cy="44460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9"/>
          <p:cNvSpPr/>
          <p:nvPr/>
        </p:nvSpPr>
        <p:spPr>
          <a:xfrm>
            <a:off x="588960" y="4010040"/>
            <a:ext cx="3174840" cy="44460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0"/>
          <p:cNvSpPr/>
          <p:nvPr/>
        </p:nvSpPr>
        <p:spPr>
          <a:xfrm>
            <a:off x="601560" y="3349800"/>
            <a:ext cx="3175200" cy="44424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1"/>
          <p:cNvSpPr/>
          <p:nvPr/>
        </p:nvSpPr>
        <p:spPr>
          <a:xfrm>
            <a:off x="614520" y="2664000"/>
            <a:ext cx="3174840" cy="444240"/>
          </a:xfrm>
          <a:prstGeom prst="roundRect">
            <a:avLst>
              <a:gd name="adj" fmla="val 16667"/>
            </a:avLst>
          </a:prstGeom>
          <a:solidFill>
            <a:srgbClr val="f8b800">
              <a:alpha val="40000"/>
            </a:srgbClr>
          </a:solidFill>
          <a:ln w="28440">
            <a:solidFill>
              <a:srgbClr val="f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749160" y="197316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664"/>
                </a:solidFill>
                <a:latin typeface="Tahoma"/>
                <a:ea typeface="Tahoma"/>
              </a:rPr>
              <a:t>Who to targ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495360" y="269568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664"/>
                </a:solidFill>
                <a:latin typeface="Tahoma"/>
                <a:ea typeface="Tahoma"/>
              </a:rPr>
              <a:t>Demographics, Product/Bran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838080" y="3394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664"/>
                </a:solidFill>
                <a:latin typeface="Tahoma"/>
                <a:ea typeface="Tahoma"/>
              </a:rPr>
              <a:t>How to target the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6440" y="4092480"/>
            <a:ext cx="29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664"/>
                </a:solidFill>
                <a:latin typeface="Tahoma"/>
                <a:ea typeface="Tahoma"/>
              </a:rPr>
              <a:t>What makes them ti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571680" y="4765680"/>
            <a:ext cx="30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664"/>
                </a:solidFill>
                <a:latin typeface="Tahoma"/>
                <a:ea typeface="Tahoma"/>
              </a:rPr>
              <a:t>Lifestyle/Attitudes/Psycho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2:58:02Z</dcterms:created>
  <dc:creator>CookeS</dc:creator>
  <dc:description/>
  <dc:language>en-US</dc:language>
  <cp:lastModifiedBy>Sami Raffoul</cp:lastModifiedBy>
  <cp:lastPrinted>2004-04-05T14:34:57Z</cp:lastPrinted>
  <dcterms:modified xsi:type="dcterms:W3CDTF">2009-07-16T06:30:19Z</dcterms:modified>
  <cp:revision>306</cp:revision>
  <dc:subject/>
  <dc:title>Slide 1</dc:title>
</cp:coreProperties>
</file>