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53.png" ContentType="image/png"/>
  <Override PartName="/ppt/media/image1.jpeg" ContentType="image/jpeg"/>
  <Override PartName="/ppt/media/image47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5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2.png" ContentType="image/png"/>
  <Override PartName="/ppt/media/image32.png" ContentType="image/png"/>
  <Override PartName="/ppt/media/image10.wmf" ContentType="image/x-wmf"/>
  <Override PartName="/ppt/media/image39.jpeg" ContentType="image/jpeg"/>
  <Override PartName="/ppt/media/image44.png" ContentType="image/png"/>
  <Override PartName="/ppt/media/image37.jpeg" ContentType="image/jpeg"/>
  <Override PartName="/ppt/media/image48.png" ContentType="image/png"/>
  <Override PartName="/ppt/media/image42.png" ContentType="image/png"/>
  <Override PartName="/ppt/media/image45.png" ContentType="image/png"/>
  <Override PartName="/ppt/media/image46.wmf" ContentType="image/x-wmf"/>
  <Override PartName="/ppt/media/image50.png" ContentType="image/png"/>
  <Override PartName="/ppt/media/image11.wmf" ContentType="image/x-wmf"/>
  <Override PartName="/ppt/media/image17.jpeg" ContentType="image/jpeg"/>
  <Override PartName="/ppt/media/image36.png" ContentType="image/png"/>
  <Override PartName="/ppt/media/image49.png" ContentType="image/png"/>
  <Override PartName="/ppt/media/image43.png" ContentType="image/png"/>
  <Override PartName="/ppt/media/image54.wmf" ContentType="image/x-wmf"/>
  <Override PartName="/ppt/media/image55.png" ContentType="image/png"/>
  <Override PartName="/ppt/media/image56.png" ContentType="image/png"/>
  <Override PartName="/ppt/media/image31.png" ContentType="image/png"/>
  <Override PartName="/ppt/media/image30.jpeg" ContentType="image/jpeg"/>
  <Override PartName="/ppt/media/image3.png" ContentType="image/png"/>
  <Override PartName="/ppt/media/image33.png" ContentType="image/png"/>
  <Override PartName="/ppt/media/image9.wmf" ContentType="image/x-wmf"/>
  <Override PartName="/ppt/media/image41.png" ContentType="image/png"/>
  <Override PartName="/ppt/media/image52.png" ContentType="image/png"/>
  <Override PartName="/ppt/media/image13.wmf" ContentType="image/x-wmf"/>
  <Override PartName="/ppt/media/image29.jpeg" ContentType="image/jpeg"/>
  <Override PartName="/ppt/media/image5.png" ContentType="image/png"/>
  <Override PartName="/ppt/media/image35.png" ContentType="image/png"/>
  <Override PartName="/ppt/media/image8.wmf" ContentType="image/x-wmf"/>
  <Override PartName="/ppt/media/image4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7B36-037B-4D51-B08A-DCA167BE59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A87A-C96A-472F-8214-A0CE8C8EBC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19240" y="709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7880" y="4330440"/>
            <a:ext cx="497016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94A0-84AA-4978-AC2E-209E711E41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900-1F48-49DD-8C35-646BC88D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B9F-54F1-4F7A-9AD6-EBEA3BBD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EB0-9BC1-4B0F-B560-A88AD2E8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977-8AF3-44BD-AEDB-B2FAAA58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BBB-51DE-4D68-88D5-737EC32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F4FF-B8E5-4ABF-9756-B8968128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11E4-BDE8-443C-A40C-26ADB03B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C4B0-80CD-42E8-8D9B-34FC3DB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DC0-77B5-40B4-8DBB-0104AAC9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4F84-8FE6-4DD6-82AC-E52CF0A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DC2-FA40-46AF-9367-DD4864A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6DE4-3B51-4ED0-8B17-D90BEB50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2867-8770-416C-B6EE-098245E5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766C-955E-4CDF-9BC9-2D6E2FE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3C65-5E8F-44F9-A810-51B2054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9C1F-2BD6-4C01-9609-EF7D7D25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EC2A-DBD5-4075-BA5F-267F5A89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AFEF-D9C3-4BBB-828E-B4CCFBC9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A27-1511-4C73-8E6B-1737E9B9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892-AE7D-480D-8B65-13FEE3A9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94F-8109-4878-B02F-536E0204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B9E-9415-43C4-BA6D-FAC585F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ACB-40B2-445B-9A3D-33E528CA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AE8-F46E-41C8-8C08-41CD1F54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8CD3-E331-48F9-B76F-68DCBE58EF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3"/>
          <a:srcRect l="139" t="9634" r="0" b="14644"/>
          <a:stretch/>
        </p:blipFill>
        <p:spPr>
          <a:xfrm>
            <a:off x="0" y="1095480"/>
            <a:ext cx="6469200" cy="141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4"/>
          <a:srcRect l="3567" t="9634" r="0" b="14644"/>
          <a:stretch/>
        </p:blipFill>
        <p:spPr>
          <a:xfrm>
            <a:off x="2901960" y="1095480"/>
            <a:ext cx="6246720" cy="14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6308640"/>
            <a:ext cx="9144000" cy="1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6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25720" y="72720"/>
            <a:ext cx="5364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31720"/>
            <a:ext cx="77724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1144440"/>
            <a:ext cx="9144000" cy="127080"/>
          </a:xfrm>
          <a:prstGeom prst="rect">
            <a:avLst/>
          </a:prstGeom>
          <a:gradFill rotWithShape="0">
            <a:gsLst>
              <a:gs pos="0">
                <a:srgbClr val="00366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8163000" y="162000"/>
            <a:ext cx="768240" cy="763560"/>
          </a:xfrm>
          <a:prstGeom prst="rect">
            <a:avLst/>
          </a:prstGeom>
          <a:ln w="0">
            <a:noFill/>
          </a:ln>
        </p:spPr>
      </p:pic>
      <p:sp>
        <p:nvSpPr>
          <p:cNvPr id="48" name="Line 8"/>
          <p:cNvSpPr/>
          <p:nvPr/>
        </p:nvSpPr>
        <p:spPr>
          <a:xfrm>
            <a:off x="0" y="1093680"/>
            <a:ext cx="9144000" cy="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4"/>
          <a:srcRect l="139" t="9634" r="0" b="14644"/>
          <a:stretch/>
        </p:blipFill>
        <p:spPr>
          <a:xfrm>
            <a:off x="0" y="1095480"/>
            <a:ext cx="6469200" cy="14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5"/>
          <a:srcRect l="3567" t="9634" r="0" b="14644"/>
          <a:stretch/>
        </p:blipFill>
        <p:spPr>
          <a:xfrm>
            <a:off x="2901960" y="1095480"/>
            <a:ext cx="6246720" cy="14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3D5D-7AD2-4D52-89A8-A5A178B5846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5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se Study on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1"/>
          <a:srcRect l="139" t="9634" r="0" b="14644"/>
          <a:stretch/>
        </p:blipFill>
        <p:spPr>
          <a:xfrm>
            <a:off x="0" y="1095480"/>
            <a:ext cx="6469200" cy="141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"/>
          <p:cNvPicPr/>
          <p:nvPr/>
        </p:nvPicPr>
        <p:blipFill>
          <a:blip r:embed="rId2"/>
          <a:srcRect l="3567" t="9634" r="0" b="14644"/>
          <a:stretch/>
        </p:blipFill>
        <p:spPr>
          <a:xfrm>
            <a:off x="2901960" y="1095480"/>
            <a:ext cx="6246720" cy="14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"/>
          <p:cNvPicPr/>
          <p:nvPr/>
        </p:nvPicPr>
        <p:blipFill>
          <a:blip r:embed="rId3"/>
          <a:stretch/>
        </p:blipFill>
        <p:spPr>
          <a:xfrm>
            <a:off x="8163000" y="162000"/>
            <a:ext cx="768240" cy="763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0" y="6308640"/>
            <a:ext cx="9144000" cy="1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6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9"/>
          <p:cNvGrpSpPr/>
          <p:nvPr/>
        </p:nvGrpSpPr>
        <p:grpSpPr>
          <a:xfrm>
            <a:off x="1348920" y="2766960"/>
            <a:ext cx="6347160" cy="1957320"/>
            <a:chOff x="1348920" y="2766960"/>
            <a:chExt cx="6347160" cy="1957320"/>
          </a:xfrm>
        </p:grpSpPr>
        <p:grpSp>
          <p:nvGrpSpPr>
            <p:cNvPr id="141" name="Group 47"/>
            <p:cNvGrpSpPr/>
            <p:nvPr/>
          </p:nvGrpSpPr>
          <p:grpSpPr>
            <a:xfrm>
              <a:off x="1348920" y="2766960"/>
              <a:ext cx="6347160" cy="1957320"/>
              <a:chOff x="1348920" y="2766960"/>
              <a:chExt cx="6347160" cy="1957320"/>
            </a:xfrm>
          </p:grpSpPr>
          <p:grpSp>
            <p:nvGrpSpPr>
              <p:cNvPr id="142" name="Group 46"/>
              <p:cNvGrpSpPr/>
              <p:nvPr/>
            </p:nvGrpSpPr>
            <p:grpSpPr>
              <a:xfrm>
                <a:off x="1348920" y="2766960"/>
                <a:ext cx="5889960" cy="1957320"/>
                <a:chOff x="1348920" y="2766960"/>
                <a:chExt cx="5889960" cy="1957320"/>
              </a:xfrm>
            </p:grpSpPr>
            <p:grpSp>
              <p:nvGrpSpPr>
                <p:cNvPr id="143" name="Group 41"/>
                <p:cNvGrpSpPr/>
                <p:nvPr/>
              </p:nvGrpSpPr>
              <p:grpSpPr>
                <a:xfrm>
                  <a:off x="1348920" y="2766960"/>
                  <a:ext cx="5889960" cy="1957320"/>
                  <a:chOff x="1348920" y="2766960"/>
                  <a:chExt cx="5889960" cy="1957320"/>
                </a:xfrm>
              </p:grpSpPr>
              <p:grpSp>
                <p:nvGrpSpPr>
                  <p:cNvPr id="144" name="Group 39"/>
                  <p:cNvGrpSpPr/>
                  <p:nvPr/>
                </p:nvGrpSpPr>
                <p:grpSpPr>
                  <a:xfrm>
                    <a:off x="1348920" y="2766960"/>
                    <a:ext cx="5889960" cy="1957320"/>
                    <a:chOff x="1348920" y="2766960"/>
                    <a:chExt cx="5889960" cy="1957320"/>
                  </a:xfrm>
                </p:grpSpPr>
                <p:grpSp>
                  <p:nvGrpSpPr>
                    <p:cNvPr id="145" name="Group 36"/>
                    <p:cNvGrpSpPr/>
                    <p:nvPr/>
                  </p:nvGrpSpPr>
                  <p:grpSpPr>
                    <a:xfrm>
                      <a:off x="1348920" y="2766960"/>
                      <a:ext cx="5889960" cy="1957320"/>
                      <a:chOff x="1348920" y="2766960"/>
                      <a:chExt cx="5889960" cy="1957320"/>
                    </a:xfrm>
                  </p:grpSpPr>
                  <p:grpSp>
                    <p:nvGrpSpPr>
                      <p:cNvPr id="146" name="Group 34"/>
                      <p:cNvGrpSpPr/>
                      <p:nvPr/>
                    </p:nvGrpSpPr>
                    <p:grpSpPr>
                      <a:xfrm>
                        <a:off x="1348920" y="2766960"/>
                        <a:ext cx="5889960" cy="1957320"/>
                        <a:chOff x="1348920" y="2766960"/>
                        <a:chExt cx="5889960" cy="1957320"/>
                      </a:xfrm>
                    </p:grpSpPr>
                    <p:grpSp>
                      <p:nvGrpSpPr>
                        <p:cNvPr id="147" name="Group 31"/>
                        <p:cNvGrpSpPr/>
                        <p:nvPr/>
                      </p:nvGrpSpPr>
                      <p:grpSpPr>
                        <a:xfrm>
                          <a:off x="1348920" y="2766960"/>
                          <a:ext cx="5889960" cy="1957320"/>
                          <a:chOff x="1348920" y="2766960"/>
                          <a:chExt cx="5889960" cy="1957320"/>
                        </a:xfrm>
                      </p:grpSpPr>
                      <p:grpSp>
                        <p:nvGrpSpPr>
                          <p:cNvPr id="148" name="Group 29"/>
                          <p:cNvGrpSpPr/>
                          <p:nvPr/>
                        </p:nvGrpSpPr>
                        <p:grpSpPr>
                          <a:xfrm>
                            <a:off x="1348920" y="2766960"/>
                            <a:ext cx="5889960" cy="1957320"/>
                            <a:chOff x="1348920" y="2766960"/>
                            <a:chExt cx="5889960" cy="1957320"/>
                          </a:xfrm>
                        </p:grpSpPr>
                        <p:grpSp>
                          <p:nvGrpSpPr>
                            <p:cNvPr id="149" name="Group 27"/>
                            <p:cNvGrpSpPr/>
                            <p:nvPr/>
                          </p:nvGrpSpPr>
                          <p:grpSpPr>
                            <a:xfrm>
                              <a:off x="1348920" y="2766960"/>
                              <a:ext cx="5889960" cy="1805040"/>
                              <a:chOff x="1348920" y="2766960"/>
                              <a:chExt cx="5889960" cy="1805040"/>
                            </a:xfrm>
                          </p:grpSpPr>
                          <p:grpSp>
                            <p:nvGrpSpPr>
                              <p:cNvPr id="150" name="Group 25"/>
                              <p:cNvGrpSpPr/>
                              <p:nvPr/>
                            </p:nvGrpSpPr>
                            <p:grpSpPr>
                              <a:xfrm>
                                <a:off x="1348920" y="2766960"/>
                                <a:ext cx="5889960" cy="1805040"/>
                                <a:chOff x="1348920" y="2766960"/>
                                <a:chExt cx="5889960" cy="1805040"/>
                              </a:xfrm>
                            </p:grpSpPr>
                            <p:grpSp>
                              <p:nvGrpSpPr>
                                <p:cNvPr id="151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752480" y="3048120"/>
                                  <a:ext cx="5486400" cy="1523880"/>
                                  <a:chOff x="1752480" y="3048120"/>
                                  <a:chExt cx="5486400" cy="1523880"/>
                                </a:xfrm>
                              </p:grpSpPr>
                              <p:grpSp>
                                <p:nvGrpSpPr>
                                  <p:cNvPr id="152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2480" y="3048120"/>
                                    <a:ext cx="5486400" cy="1523880"/>
                                    <a:chOff x="1752480" y="3048120"/>
                                    <a:chExt cx="5486400" cy="1523880"/>
                                  </a:xfrm>
                                </p:grpSpPr>
                                <p:grpSp>
                                  <p:nvGrpSpPr>
                                    <p:cNvPr id="153" name="Group 19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2480" y="3048120"/>
                                      <a:ext cx="5486400" cy="1523880"/>
                                      <a:chOff x="1752480" y="3048120"/>
                                      <a:chExt cx="5486400" cy="1523880"/>
                                    </a:xfrm>
                                  </p:grpSpPr>
                                  <p:pic>
                                    <p:nvPicPr>
                                      <p:cNvPr id="154" name="Picture 8" descr=""/>
                                      <p:cNvPicPr/>
                                      <p:nvPr/>
                                    </p:nvPicPr>
                                    <p:blipFill>
                                      <a:blip r:embed="rId4"/>
                                      <a:stretch/>
                                    </p:blipFill>
                                    <p:spPr>
                                      <a:xfrm>
                                        <a:off x="1752480" y="3048120"/>
                                        <a:ext cx="5486400" cy="1523880"/>
                                      </a:xfrm>
                                      <a:prstGeom prst="rect">
                                        <a:avLst/>
                                      </a:prstGeom>
                                      <a:ln w="0">
                                        <a:noFill/>
                                      </a:ln>
                                    </p:spPr>
                                  </p:pic>
                                  <p:sp>
                                    <p:nvSpPr>
                                      <p:cNvPr id="155" name="Rectangl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486400" y="3505320"/>
                                        <a:ext cx="152280" cy="609480"/>
                                      </a:xfrm>
                                      <a:prstGeom prst="rect">
                                        <a:avLst/>
                                      </a:prstGeom>
                                      <a:solidFill>
                                        <a:srgbClr val="ffffff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 algn="r" rtl="1"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56" name="Rectangle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886200" y="3886200"/>
                                      <a:ext cx="76320" cy="22860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ffffff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r" rtl="1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57" name="Rectangle 22"/>
                                  <p:cNvSpPr/>
                                  <p:nvPr/>
                                </p:nvSpPr>
                                <p:spPr>
                                  <a:xfrm>
                                    <a:off x="4343400" y="3886200"/>
                                    <a:ext cx="304920" cy="763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ff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29520" bIns="29520" anchor="ctr">
                                    <a:noAutofit/>
                                  </a:bodyPr>
                                  <a:p>
                                    <a:pPr algn="r" rtl="1"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58" name="Rectangle 24"/>
                                <p:cNvSpPr/>
                                <p:nvPr/>
                              </p:nvSpPr>
                              <p:spPr>
                                <a:xfrm rot="19968600">
                                  <a:off x="1295280" y="3124080"/>
                                  <a:ext cx="1600200" cy="1526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pPr algn="r" rtl="1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59" name="Rectangle 26"/>
                              <p:cNvSpPr/>
                              <p:nvPr/>
                            </p:nvSpPr>
                            <p:spPr>
                              <a:xfrm rot="1667400">
                                <a:off x="2689200" y="3108240"/>
                                <a:ext cx="1066680" cy="1526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60" name="Rectangle 28"/>
                            <p:cNvSpPr/>
                            <p:nvPr/>
                          </p:nvSpPr>
                          <p:spPr>
                            <a:xfrm>
                              <a:off x="3657600" y="3429000"/>
                              <a:ext cx="152280" cy="129528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61" name="Rectangle 30"/>
                          <p:cNvSpPr/>
                          <p:nvPr/>
                        </p:nvSpPr>
                        <p:spPr>
                          <a:xfrm>
                            <a:off x="5257800" y="3886200"/>
                            <a:ext cx="152280" cy="2286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62" name="Rectangle 33"/>
                        <p:cNvSpPr/>
                        <p:nvPr/>
                      </p:nvSpPr>
                      <p:spPr>
                        <a:xfrm rot="1963800">
                          <a:off x="5903640" y="3940200"/>
                          <a:ext cx="395280" cy="1666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63" name="Rectangle 35"/>
                      <p:cNvSpPr/>
                      <p:nvPr/>
                    </p:nvSpPr>
                    <p:spPr>
                      <a:xfrm>
                        <a:off x="5715000" y="3886200"/>
                        <a:ext cx="22860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" name="Oval 38"/>
                    <p:cNvSpPr/>
                    <p:nvPr/>
                  </p:nvSpPr>
                  <p:spPr>
                    <a:xfrm>
                      <a:off x="4343400" y="3200400"/>
                      <a:ext cx="3049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5" name="Rectangle 40"/>
                  <p:cNvSpPr/>
                  <p:nvPr/>
                </p:nvSpPr>
                <p:spPr>
                  <a:xfrm rot="1881000">
                    <a:off x="6248520" y="4038120"/>
                    <a:ext cx="6094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Rectangle 45"/>
                <p:cNvSpPr/>
                <p:nvPr/>
              </p:nvSpPr>
              <p:spPr>
                <a:xfrm>
                  <a:off x="3809880" y="4114800"/>
                  <a:ext cx="3429000" cy="533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44"/>
              <p:cNvSpPr/>
              <p:nvPr/>
            </p:nvSpPr>
            <p:spPr>
              <a:xfrm>
                <a:off x="3809880" y="4191120"/>
                <a:ext cx="388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69696"/>
                    </a:solidFill>
                    <a:latin typeface="Calibri"/>
                  </a:rPr>
                  <a:t>Pan Arab Research Center</a:t>
                </a:r>
                <a:r>
                  <a:rPr b="0" lang="en-US" sz="1800" spc="-1" strike="noStrike">
                    <a:solidFill>
                      <a:srgbClr val="b2b2b2"/>
                    </a:solidFill>
                    <a:latin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48"/>
            <p:cNvSpPr/>
            <p:nvPr/>
          </p:nvSpPr>
          <p:spPr>
            <a:xfrm>
              <a:off x="4572000" y="358128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1576440" y="1608120"/>
          <a:ext cx="352908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608120"/>
                    <a:ext cx="35290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mo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295280" y="8380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Income  &amp; Role of Purc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715000" y="8380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UAE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 flipH="1" flipV="1">
            <a:off x="3304800" y="1599840"/>
            <a:ext cx="12600" cy="4235400"/>
          </a:xfrm>
          <a:prstGeom prst="line">
            <a:avLst/>
          </a:prstGeom>
          <a:ln w="3492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52280" y="1752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,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6320" y="2254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,00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000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h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52280" y="27874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,00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8,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h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152280" y="32767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9,00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,5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h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152280" y="388620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,50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,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h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152280" y="4419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,00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,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h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04920" y="4952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2416680" y="3429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2416680" y="5029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6"/>
          <p:cNvGraphicFramePr/>
          <p:nvPr/>
        </p:nvGraphicFramePr>
        <p:xfrm>
          <a:off x="6553080" y="1608120"/>
          <a:ext cx="3529080" cy="479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1608120"/>
                    <a:ext cx="352908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17"/>
          <p:cNvSpPr/>
          <p:nvPr/>
        </p:nvSpPr>
        <p:spPr>
          <a:xfrm flipH="1" flipV="1">
            <a:off x="8282160" y="1599840"/>
            <a:ext cx="23760" cy="4724280"/>
          </a:xfrm>
          <a:prstGeom prst="line">
            <a:avLst/>
          </a:prstGeom>
          <a:ln w="3492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7445880" y="2209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7445880" y="2666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7445880" y="31240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7445880" y="35812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7445880" y="4038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7445880" y="4572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4"/>
          <p:cNvSpPr/>
          <p:nvPr/>
        </p:nvSpPr>
        <p:spPr>
          <a:xfrm>
            <a:off x="7445880" y="5029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7445880" y="54864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"/>
          <p:cNvSpPr/>
          <p:nvPr/>
        </p:nvSpPr>
        <p:spPr>
          <a:xfrm>
            <a:off x="7468200" y="5943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5410080" y="17524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ub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8"/>
          <p:cNvSpPr/>
          <p:nvPr/>
        </p:nvSpPr>
        <p:spPr>
          <a:xfrm>
            <a:off x="5410080" y="2178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arj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4419720" y="2635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uthern Emi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5410080" y="31240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u Dha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5410080" y="3625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L 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4114800" y="41148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ern Emi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4616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mm Al Quw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4"/>
          <p:cNvSpPr/>
          <p:nvPr/>
        </p:nvSpPr>
        <p:spPr>
          <a:xfrm>
            <a:off x="4724280" y="50734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j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5"/>
          <p:cNvSpPr/>
          <p:nvPr/>
        </p:nvSpPr>
        <p:spPr>
          <a:xfrm>
            <a:off x="4572000" y="55306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s Al Khaim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6"/>
          <p:cNvSpPr/>
          <p:nvPr/>
        </p:nvSpPr>
        <p:spPr>
          <a:xfrm>
            <a:off x="152280" y="4952880"/>
            <a:ext cx="3124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7"/>
          <p:cNvSpPr/>
          <p:nvPr/>
        </p:nvSpPr>
        <p:spPr>
          <a:xfrm>
            <a:off x="2515680" y="1752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2416680" y="23623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2416680" y="2819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16680" y="3962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2416680" y="4495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2515680" y="5562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3"/>
          <p:cNvSpPr/>
          <p:nvPr/>
        </p:nvSpPr>
        <p:spPr>
          <a:xfrm>
            <a:off x="304920" y="5486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n Sh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4"/>
          <p:cNvSpPr/>
          <p:nvPr/>
        </p:nvSpPr>
        <p:spPr>
          <a:xfrm>
            <a:off x="7544880" y="1752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4572000" y="59119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je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7"/>
          <p:cNvSpPr/>
          <p:nvPr/>
        </p:nvSpPr>
        <p:spPr>
          <a:xfrm>
            <a:off x="2895480" y="6477120"/>
            <a:ext cx="3276720" cy="307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TV Viewers = 4.5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4319640" y="1608120"/>
          <a:ext cx="352908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9640" y="1608120"/>
                    <a:ext cx="35290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mo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581280" y="8380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Social Class &amp; Language Kn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"/>
          <p:cNvSpPr/>
          <p:nvPr/>
        </p:nvSpPr>
        <p:spPr>
          <a:xfrm flipH="1" flipV="1">
            <a:off x="6048000" y="1707840"/>
            <a:ext cx="12600" cy="4235400"/>
          </a:xfrm>
          <a:prstGeom prst="line">
            <a:avLst/>
          </a:prstGeom>
          <a:ln w="3492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2895480" y="17524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as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666880" y="22543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as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590920" y="2787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ass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819520" y="32767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ass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819520" y="3657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ab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2895480" y="41148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3200400" y="4572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5182560" y="3200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5083920" y="46483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3048120" y="3581280"/>
            <a:ext cx="3429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5083920" y="1752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5083920" y="2209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5083920" y="2666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5083920" y="3657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5182560" y="4114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5182560" y="5105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66880" y="5029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r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5182560" y="5562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4"/>
          <p:cNvSpPr/>
          <p:nvPr/>
        </p:nvSpPr>
        <p:spPr>
          <a:xfrm>
            <a:off x="2666880" y="5530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2895480" y="6477120"/>
            <a:ext cx="3276720" cy="307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TV Viewers = 4.5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6" descr="retirement20sun"/>
          <p:cNvPicPr/>
          <p:nvPr/>
        </p:nvPicPr>
        <p:blipFill>
          <a:blip r:embed="rId1"/>
          <a:stretch/>
        </p:blipFill>
        <p:spPr>
          <a:xfrm>
            <a:off x="6095880" y="2205000"/>
            <a:ext cx="1428840" cy="1224000"/>
          </a:xfrm>
          <a:prstGeom prst="rect">
            <a:avLst/>
          </a:prstGeom>
          <a:ln w="31680">
            <a:solidFill>
              <a:srgbClr val="333399"/>
            </a:solidFill>
            <a:miter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ife Events</a:t>
            </a:r>
            <a:br>
              <a:rPr sz="28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- Experienced in last 12 months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V viewers seem to be from the older generation, with children who are starting out their lives as they contemplate ret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228600" y="2057400"/>
            <a:ext cx="5699160" cy="406080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431640" y="2549520"/>
            <a:ext cx="574848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major home improve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 goes to univers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th of second or subsequent chi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th of first chi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d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l or change 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ret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567320" y="21477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8" descr="HOME_IMPROVEMENT_IMAGE_FOR_SHOWROOM"/>
          <p:cNvPicPr/>
          <p:nvPr/>
        </p:nvPicPr>
        <p:blipFill>
          <a:blip r:embed="rId2"/>
          <a:stretch/>
        </p:blipFill>
        <p:spPr>
          <a:xfrm>
            <a:off x="6419880" y="4046400"/>
            <a:ext cx="1417680" cy="15922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90" name="Picture 9" descr="november_graduation"/>
          <p:cNvPicPr/>
          <p:nvPr/>
        </p:nvPicPr>
        <p:blipFill>
          <a:blip r:embed="rId3"/>
          <a:stretch/>
        </p:blipFill>
        <p:spPr>
          <a:xfrm>
            <a:off x="7505640" y="2849400"/>
            <a:ext cx="1257480" cy="1676520"/>
          </a:xfrm>
          <a:prstGeom prst="rect">
            <a:avLst/>
          </a:prstGeom>
          <a:ln w="316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7" descr="Jobl"/>
          <p:cNvPicPr/>
          <p:nvPr/>
        </p:nvPicPr>
        <p:blipFill>
          <a:blip r:embed="rId1"/>
          <a:stretch/>
        </p:blipFill>
        <p:spPr>
          <a:xfrm>
            <a:off x="6324480" y="4495680"/>
            <a:ext cx="1414440" cy="1676520"/>
          </a:xfrm>
          <a:prstGeom prst="rect">
            <a:avLst/>
          </a:prstGeom>
          <a:ln w="31680">
            <a:solidFill>
              <a:srgbClr val="333399"/>
            </a:solidFill>
            <a:miter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ife Events</a:t>
            </a:r>
            <a:br>
              <a:rPr sz="28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- Expecting in next 12 months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s for their expectations for the next 12 months, TV viewers seem to expect becoming grandparents and purchasing a new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264960" y="2035080"/>
            <a:ext cx="5699160" cy="406080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31640" y="2549520"/>
            <a:ext cx="574848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th of second or subsequent chi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th of first chi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th of grand chi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 a hou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d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l or change 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first jo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4567320" y="21477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8" descr="realestatei0304"/>
          <p:cNvPicPr/>
          <p:nvPr/>
        </p:nvPicPr>
        <p:blipFill>
          <a:blip r:embed="rId2"/>
          <a:stretch/>
        </p:blipFill>
        <p:spPr>
          <a:xfrm>
            <a:off x="7516800" y="3514680"/>
            <a:ext cx="1420920" cy="13762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98" name="Picture 9" descr="n844805359_5971099_5117677"/>
          <p:cNvPicPr/>
          <p:nvPr/>
        </p:nvPicPr>
        <p:blipFill>
          <a:blip r:embed="rId3"/>
          <a:stretch/>
        </p:blipFill>
        <p:spPr>
          <a:xfrm>
            <a:off x="6553080" y="2209680"/>
            <a:ext cx="1243080" cy="1657440"/>
          </a:xfrm>
          <a:prstGeom prst="rect">
            <a:avLst/>
          </a:prstGeom>
          <a:ln w="316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6172200"/>
            <a:ext cx="8610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8381880" y="6248520"/>
            <a:ext cx="762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5"/>
          <p:cNvSpPr/>
          <p:nvPr/>
        </p:nvSpPr>
        <p:spPr>
          <a:xfrm>
            <a:off x="838080" y="152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V View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5"/>
          <p:cNvGraphicFramePr/>
          <p:nvPr/>
        </p:nvGraphicFramePr>
        <p:xfrm>
          <a:off x="0" y="1371600"/>
          <a:ext cx="9023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02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Oval 10"/>
          <p:cNvSpPr/>
          <p:nvPr/>
        </p:nvSpPr>
        <p:spPr>
          <a:xfrm>
            <a:off x="7086600" y="2133720"/>
            <a:ext cx="990720" cy="68580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ct 3"/>
          <p:cNvGraphicFramePr/>
          <p:nvPr/>
        </p:nvGraphicFramePr>
        <p:xfrm>
          <a:off x="4680" y="1598760"/>
          <a:ext cx="9063000" cy="52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598760"/>
                    <a:ext cx="906300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6"/>
          <p:cNvSpPr/>
          <p:nvPr/>
        </p:nvSpPr>
        <p:spPr>
          <a:xfrm>
            <a:off x="1714680" y="228600"/>
            <a:ext cx="5715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V users View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ing Times During Days of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76520" y="72720"/>
            <a:ext cx="57132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ily Activity Curve: Viewer ship Patterns vs. Ge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3"/>
          <p:cNvGraphicFramePr/>
          <p:nvPr/>
        </p:nvGraphicFramePr>
        <p:xfrm>
          <a:off x="54000" y="1287360"/>
          <a:ext cx="903600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1287360"/>
                    <a:ext cx="903600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AutoShape 4"/>
          <p:cNvSpPr/>
          <p:nvPr/>
        </p:nvSpPr>
        <p:spPr>
          <a:xfrm>
            <a:off x="2819520" y="2438280"/>
            <a:ext cx="2286000" cy="1067040"/>
          </a:xfrm>
          <a:prstGeom prst="wedgeRoundRectCallout">
            <a:avLst>
              <a:gd name="adj1" fmla="val -34652"/>
              <a:gd name="adj2" fmla="val 95087"/>
              <a:gd name="adj3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emales register higher viewer ship during the day time, while males have a higher viewer ship at night after 8 p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6248520"/>
            <a:ext cx="9144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99840" y="72720"/>
            <a:ext cx="60958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ily Activity Curve: Viewer ship Patterns vs. 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3"/>
          <p:cNvGraphicFramePr/>
          <p:nvPr/>
        </p:nvGraphicFramePr>
        <p:xfrm>
          <a:off x="60480" y="1143000"/>
          <a:ext cx="903600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143000"/>
                    <a:ext cx="903600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AutoShape 4"/>
          <p:cNvSpPr/>
          <p:nvPr/>
        </p:nvSpPr>
        <p:spPr>
          <a:xfrm>
            <a:off x="4495680" y="2666880"/>
            <a:ext cx="2286000" cy="914400"/>
          </a:xfrm>
          <a:prstGeom prst="wedgeRoundRectCallout">
            <a:avLst>
              <a:gd name="adj1" fmla="val -39861"/>
              <a:gd name="adj2" fmla="val 83509"/>
              <a:gd name="adj3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The age bracket 50+ yrs register the highest viewer ship times for TV listening in the morning during peak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00200" y="72720"/>
            <a:ext cx="647712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ily Activity Curve: Viewer ship Patterns vs. Marital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3"/>
          <p:cNvGraphicFramePr/>
          <p:nvPr/>
        </p:nvGraphicFramePr>
        <p:xfrm>
          <a:off x="60480" y="1143000"/>
          <a:ext cx="903600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143000"/>
                    <a:ext cx="903600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AutoShape 4"/>
          <p:cNvSpPr/>
          <p:nvPr/>
        </p:nvSpPr>
        <p:spPr>
          <a:xfrm>
            <a:off x="4495680" y="2666880"/>
            <a:ext cx="2286000" cy="762120"/>
          </a:xfrm>
          <a:prstGeom prst="wedgeRoundRectCallout">
            <a:avLst>
              <a:gd name="adj1" fmla="val -34513"/>
              <a:gd name="adj2" fmla="val 81041"/>
              <a:gd name="adj3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idowed / Divorced register the highest Viewer ship times for TV during day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00200" y="72720"/>
            <a:ext cx="647712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ily Activity Curve: Viewer ship Patterns vs. Inc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3"/>
          <p:cNvGraphicFramePr/>
          <p:nvPr/>
        </p:nvGraphicFramePr>
        <p:xfrm>
          <a:off x="57240" y="1139760"/>
          <a:ext cx="9018360" cy="556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139760"/>
                    <a:ext cx="901836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AutoShape 4"/>
          <p:cNvSpPr/>
          <p:nvPr/>
        </p:nvSpPr>
        <p:spPr>
          <a:xfrm>
            <a:off x="4495680" y="2666880"/>
            <a:ext cx="2286000" cy="762120"/>
          </a:xfrm>
          <a:prstGeom prst="wedgeRoundRectCallout">
            <a:avLst>
              <a:gd name="adj1" fmla="val -34513"/>
              <a:gd name="adj2" fmla="val 81041"/>
              <a:gd name="adj3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idowed / Divorced register the highest listening times for rad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GI (Target Group Index) is a single-source market research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GI provides invaluable data on large samples of the adult population (15+ years) in the survey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GI provides data on the respondents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ge of a multitude of products and 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sur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ation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 exposure and p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itudes, Opinion, Interests and mot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411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G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1"/>
          <a:srcRect l="139" t="9634" r="0" b="14644"/>
          <a:stretch/>
        </p:blipFill>
        <p:spPr>
          <a:xfrm>
            <a:off x="0" y="1095480"/>
            <a:ext cx="6469200" cy="141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2"/>
          <a:srcRect l="3567" t="9634" r="0" b="14644"/>
          <a:stretch/>
        </p:blipFill>
        <p:spPr>
          <a:xfrm>
            <a:off x="2901960" y="1095480"/>
            <a:ext cx="6246720" cy="14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"/>
          <p:cNvPicPr/>
          <p:nvPr/>
        </p:nvPicPr>
        <p:blipFill>
          <a:blip r:embed="rId3"/>
          <a:stretch/>
        </p:blipFill>
        <p:spPr>
          <a:xfrm>
            <a:off x="8163000" y="162000"/>
            <a:ext cx="76824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00200" y="72720"/>
            <a:ext cx="647712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ily Activity Curve: Viewer ship Patterns vs. 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3"/>
          <p:cNvGraphicFramePr/>
          <p:nvPr/>
        </p:nvGraphicFramePr>
        <p:xfrm>
          <a:off x="60480" y="1143000"/>
          <a:ext cx="903600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143000"/>
                    <a:ext cx="903600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AutoShape 4"/>
          <p:cNvSpPr/>
          <p:nvPr/>
        </p:nvSpPr>
        <p:spPr>
          <a:xfrm>
            <a:off x="4495680" y="2666880"/>
            <a:ext cx="2286000" cy="762120"/>
          </a:xfrm>
          <a:prstGeom prst="wedgeRoundRectCallout">
            <a:avLst>
              <a:gd name="adj1" fmla="val -34513"/>
              <a:gd name="adj2" fmla="val 81041"/>
              <a:gd name="adj3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Ras Al Khaimah register the highest viewer ship times for TV during peak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1870200" y="74520"/>
            <a:ext cx="6157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V Stations (Yester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have an array of different stations they are more likely to rate as their favou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380880" y="2422440"/>
            <a:ext cx="8305920" cy="3826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533520" y="2263680"/>
            <a:ext cx="777240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MBC 1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Zee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MBC 2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Star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Dubai TV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Sony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Al Jazeera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Zee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MBC 4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Star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4572000" y="2438280"/>
            <a:ext cx="7632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1752480" y="2514600"/>
            <a:ext cx="152424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5791320" y="2503440"/>
            <a:ext cx="152388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MBC1"/>
          <p:cNvPicPr/>
          <p:nvPr/>
        </p:nvPicPr>
        <p:blipFill>
          <a:blip r:embed="rId1"/>
          <a:stretch/>
        </p:blipFill>
        <p:spPr>
          <a:xfrm>
            <a:off x="2971800" y="2967120"/>
            <a:ext cx="1152360" cy="466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MBC2"/>
          <p:cNvPicPr/>
          <p:nvPr/>
        </p:nvPicPr>
        <p:blipFill>
          <a:blip r:embed="rId2"/>
          <a:stretch/>
        </p:blipFill>
        <p:spPr>
          <a:xfrm>
            <a:off x="3048120" y="3886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mbc4"/>
          <p:cNvPicPr/>
          <p:nvPr/>
        </p:nvPicPr>
        <p:blipFill>
          <a:blip r:embed="rId3"/>
          <a:stretch/>
        </p:blipFill>
        <p:spPr>
          <a:xfrm>
            <a:off x="2743200" y="48769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zee"/>
          <p:cNvPicPr/>
          <p:nvPr/>
        </p:nvPicPr>
        <p:blipFill>
          <a:blip r:embed="rId4"/>
          <a:stretch/>
        </p:blipFill>
        <p:spPr>
          <a:xfrm>
            <a:off x="7315200" y="2819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3" descr="starplus_1922"/>
          <p:cNvPicPr/>
          <p:nvPr/>
        </p:nvPicPr>
        <p:blipFill>
          <a:blip r:embed="rId5"/>
          <a:stretch/>
        </p:blipFill>
        <p:spPr>
          <a:xfrm>
            <a:off x="7086600" y="4114800"/>
            <a:ext cx="1371600" cy="571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zee tv"/>
          <p:cNvPicPr/>
          <p:nvPr/>
        </p:nvPicPr>
        <p:blipFill>
          <a:blip r:embed="rId6"/>
          <a:stretch/>
        </p:blipFill>
        <p:spPr>
          <a:xfrm>
            <a:off x="7315200" y="5105520"/>
            <a:ext cx="10666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1870200" y="74520"/>
            <a:ext cx="6157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ypes of TV Programmes</a:t>
            </a:r>
            <a:br>
              <a:rPr sz="28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- Specially choose to Watch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more likely to watch news and religious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135000" y="1847880"/>
            <a:ext cx="5656320" cy="424800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03040" y="2330280"/>
            <a:ext cx="902340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World \ Local \ Main N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Religious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English Language Action \ Suspense Mov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Sports N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Asian Comedy Mov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Asian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Asian Action \ Suspense Mov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Asian Romance Mov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Health Related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664"/>
                </a:solidFill>
                <a:latin typeface="Arial"/>
              </a:rPr>
              <a:t>English Language Horror Mov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news"/>
          <p:cNvPicPr/>
          <p:nvPr/>
        </p:nvPicPr>
        <p:blipFill>
          <a:blip r:embed="rId1"/>
          <a:stretch/>
        </p:blipFill>
        <p:spPr>
          <a:xfrm>
            <a:off x="7315200" y="1676520"/>
            <a:ext cx="1351080" cy="1447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sports%20bet%202"/>
          <p:cNvPicPr/>
          <p:nvPr/>
        </p:nvPicPr>
        <p:blipFill>
          <a:blip r:embed="rId2"/>
          <a:stretch/>
        </p:blipFill>
        <p:spPr>
          <a:xfrm>
            <a:off x="6477120" y="3352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header"/>
          <p:cNvPicPr/>
          <p:nvPr/>
        </p:nvPicPr>
        <p:blipFill>
          <a:blip r:embed="rId3"/>
          <a:stretch/>
        </p:blipFill>
        <p:spPr>
          <a:xfrm>
            <a:off x="6248520" y="5029200"/>
            <a:ext cx="26668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1870200" y="74520"/>
            <a:ext cx="6157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adio Stations (Usually Lis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have an array of different stations they are more likely to rate as their favou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380880" y="2422440"/>
            <a:ext cx="8305920" cy="3826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533520" y="2263680"/>
            <a:ext cx="777240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Abu Dhabi quran Al Kareem 88.2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City 101.6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Emarat FM (Arabic ) 97.1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Radio 4 FM (Hindi ) 8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Radio Al Rabia FM Arabic 107.8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HUM FM 10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Radio Sawa 90.55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Dubai 92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Abu Dhabi AM (Arabic)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664"/>
                </a:solidFill>
                <a:latin typeface="Arial"/>
              </a:rPr>
              <a:t>104.8 Channel 4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572000" y="2438280"/>
            <a:ext cx="7632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752480" y="2514600"/>
            <a:ext cx="152424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5791320" y="2503440"/>
            <a:ext cx="152388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1870200" y="74520"/>
            <a:ext cx="6157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ypes of Radio Programmes</a:t>
            </a:r>
            <a:br>
              <a:rPr sz="28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- Specially choose to listen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more likely to listen to news local and inter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135000" y="1847880"/>
            <a:ext cx="5884920" cy="440064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203040" y="2330280"/>
            <a:ext cx="90234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News Internati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Religious Top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News Local \ Current Affai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Celebrity Interview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News Arab \ Regi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News Asi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Science and Medici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S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Egyptian Son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9" descr="102291-main_Full"/>
          <p:cNvPicPr/>
          <p:nvPr/>
        </p:nvPicPr>
        <p:blipFill>
          <a:blip r:embed="rId1"/>
          <a:stretch/>
        </p:blipFill>
        <p:spPr>
          <a:xfrm>
            <a:off x="6553080" y="2577960"/>
            <a:ext cx="2210040" cy="124488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461" name="Picture 10" descr="Science%20-%20Medicine%20c%201"/>
          <p:cNvPicPr/>
          <p:nvPr/>
        </p:nvPicPr>
        <p:blipFill>
          <a:blip r:embed="rId2"/>
          <a:stretch/>
        </p:blipFill>
        <p:spPr>
          <a:xfrm>
            <a:off x="6705720" y="4114800"/>
            <a:ext cx="1620720" cy="2093760"/>
          </a:xfrm>
          <a:prstGeom prst="rect">
            <a:avLst/>
          </a:prstGeom>
          <a:ln w="316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1870200" y="74520"/>
            <a:ext cx="6157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ternet Sites (Top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have an array of different stations they are more likely to rate as their favou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380880" y="1828800"/>
            <a:ext cx="6629400" cy="434340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533520" y="1685880"/>
            <a:ext cx="777240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Google.ae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Gulfnew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Hotmail.com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Faceboo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MSN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6ara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Wikipedia.org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Al Jazeera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Yahoo.com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664"/>
                </a:solidFill>
                <a:latin typeface="Arial"/>
              </a:rPr>
              <a:t>Youtub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facebook-logo"/>
          <p:cNvPicPr/>
          <p:nvPr/>
        </p:nvPicPr>
        <p:blipFill>
          <a:blip r:embed="rId1"/>
          <a:stretch/>
        </p:blipFill>
        <p:spPr>
          <a:xfrm rot="1346400">
            <a:off x="7086240" y="3352680"/>
            <a:ext cx="1676520" cy="630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0" descr="youtube-logo"/>
          <p:cNvPicPr/>
          <p:nvPr/>
        </p:nvPicPr>
        <p:blipFill>
          <a:blip r:embed="rId2"/>
          <a:stretch/>
        </p:blipFill>
        <p:spPr>
          <a:xfrm>
            <a:off x="6477120" y="4724280"/>
            <a:ext cx="2514600" cy="1778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1" descr="google_logo"/>
          <p:cNvPicPr/>
          <p:nvPr/>
        </p:nvPicPr>
        <p:blipFill>
          <a:blip r:embed="rId3"/>
          <a:stretch/>
        </p:blipFill>
        <p:spPr>
          <a:xfrm>
            <a:off x="2717640" y="2209680"/>
            <a:ext cx="1854360" cy="773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2" descr="wikipedia-logo"/>
          <p:cNvPicPr/>
          <p:nvPr/>
        </p:nvPicPr>
        <p:blipFill>
          <a:blip r:embed="rId4"/>
          <a:stretch/>
        </p:blipFill>
        <p:spPr>
          <a:xfrm>
            <a:off x="2971800" y="3962520"/>
            <a:ext cx="15192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1870200" y="74520"/>
            <a:ext cx="6157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ypes of Sited Vi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440" y="12351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y are more likely to browse to news sites, send email and c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/>
          <p:cNvSpPr/>
          <p:nvPr/>
        </p:nvSpPr>
        <p:spPr>
          <a:xfrm>
            <a:off x="135000" y="1847880"/>
            <a:ext cx="6342120" cy="440064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203040" y="2330280"/>
            <a:ext cx="90234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Using Ema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Newspapers \ New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Chat R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Music \ MP3 Downlo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Health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Downloading Progr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Academic Study \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Employment Opport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Ca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3664"/>
                </a:solidFill>
                <a:latin typeface="Arial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66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6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7" descr="Email%20Icon"/>
          <p:cNvPicPr/>
          <p:nvPr/>
        </p:nvPicPr>
        <p:blipFill>
          <a:blip r:embed="rId1"/>
          <a:stretch/>
        </p:blipFill>
        <p:spPr>
          <a:xfrm>
            <a:off x="5943600" y="198108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chat"/>
          <p:cNvPicPr/>
          <p:nvPr/>
        </p:nvPicPr>
        <p:blipFill>
          <a:blip r:embed="rId2"/>
          <a:stretch/>
        </p:blipFill>
        <p:spPr>
          <a:xfrm>
            <a:off x="6781680" y="4495680"/>
            <a:ext cx="1981440" cy="15177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p3"/>
          <p:cNvPicPr/>
          <p:nvPr/>
        </p:nvPicPr>
        <p:blipFill>
          <a:blip r:embed="rId3"/>
          <a:stretch/>
        </p:blipFill>
        <p:spPr>
          <a:xfrm>
            <a:off x="4419720" y="4267080"/>
            <a:ext cx="15192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2025720" y="73080"/>
            <a:ext cx="53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at are their media habit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0" y="1233360"/>
            <a:ext cx="9144000" cy="58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V viewers show the highest affinity towards outdoor adv, it can be used as a complementary medium along with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4"/>
          <p:cNvGrpSpPr/>
          <p:nvPr/>
        </p:nvGrpSpPr>
        <p:grpSpPr>
          <a:xfrm>
            <a:off x="34920" y="1900080"/>
            <a:ext cx="8966160" cy="4470480"/>
            <a:chOff x="34920" y="1900080"/>
            <a:chExt cx="8966160" cy="4470480"/>
          </a:xfrm>
        </p:grpSpPr>
        <p:graphicFrame>
          <p:nvGraphicFramePr>
            <p:cNvPr id="480" name="Object 5"/>
            <p:cNvGraphicFramePr/>
            <p:nvPr/>
          </p:nvGraphicFramePr>
          <p:xfrm>
            <a:off x="34920" y="1900080"/>
            <a:ext cx="8966160" cy="447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920" y="1900080"/>
                      <a:ext cx="8966160" cy="447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Rectangle 6"/>
            <p:cNvSpPr/>
            <p:nvPr/>
          </p:nvSpPr>
          <p:spPr>
            <a:xfrm>
              <a:off x="4129200" y="6068880"/>
              <a:ext cx="142704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451080" y="-6228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Calibri"/>
              </a:rPr>
              <a:t>Your Attitudes, Opinions and Inter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2732040" y="4529160"/>
            <a:ext cx="685800" cy="22860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3875040" y="4529160"/>
            <a:ext cx="685800" cy="22860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5018040" y="4529160"/>
            <a:ext cx="762120" cy="22860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6389640" y="4529160"/>
            <a:ext cx="762120" cy="22860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84920" y="4529160"/>
            <a:ext cx="762120" cy="22860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49240" y="1980720"/>
            <a:ext cx="7445520" cy="838440"/>
          </a:xfrm>
          <a:prstGeom prst="rect">
            <a:avLst/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e would like you to tell us the extent to which you agree or disagree with each statement by marking one of the boxes opposite the statement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17360" y="4181400"/>
            <a:ext cx="2324160" cy="642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Univers"/>
              </a:rPr>
              <a:t>I like the idea of traveling 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2427120" y="37479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Definitely 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3684600" y="37479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end to 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7456320" y="37479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Definitely Dis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6199200" y="37479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end to Dis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4713120" y="37386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Neither Agree nor Dis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152280" y="152280"/>
            <a:ext cx="8610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149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Personality Statements vs. U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52280" y="762120"/>
          <a:ext cx="8610840" cy="5562360"/>
        </p:xfrm>
        <a:graphic>
          <a:graphicData uri="http://schemas.openxmlformats.org/drawingml/2006/table">
            <a:tbl>
              <a:tblPr/>
              <a:tblGrid>
                <a:gridCol w="6615360"/>
                <a:gridCol w="199548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sonality State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V Vie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sily handle ambiguous or uncertain situ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ike to have control over people and resour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usually value sentiments more than logi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choose products and brands that match my persona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ick up on the vibrations of people around m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often recognize relationships between seemingly unrelated ev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find it difficult to say no to my ki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 skeptical and cautious of new or untried ide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friends are more important to me than my fami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ike to enjoy life and don't worry about the fut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 rot="5400000">
            <a:off x="1010520" y="330480"/>
            <a:ext cx="4913280" cy="6934320"/>
          </a:xfrm>
          <a:prstGeom prst="triangle">
            <a:avLst>
              <a:gd name="adj" fmla="val 49968"/>
            </a:avLst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648320" y="3352680"/>
            <a:ext cx="1676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Univers"/>
              </a:rPr>
              <a:t>Life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"/>
              </a:rPr>
              <a:t>Attit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"/>
              </a:rPr>
              <a:t>Opin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"/>
              </a:rPr>
              <a:t>Inter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7012080" y="3032280"/>
            <a:ext cx="1981080" cy="15238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"/>
              </a:rPr>
              <a:t>Sing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187200" y="1865160"/>
            <a:ext cx="1752480" cy="3862440"/>
            <a:chOff x="187200" y="1865160"/>
            <a:chExt cx="1752480" cy="3862440"/>
          </a:xfrm>
        </p:grpSpPr>
        <p:sp>
          <p:nvSpPr>
            <p:cNvPr id="178" name="Rectangle 6"/>
            <p:cNvSpPr/>
            <p:nvPr/>
          </p:nvSpPr>
          <p:spPr>
            <a:xfrm>
              <a:off x="187200" y="2246040"/>
              <a:ext cx="17524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Univers"/>
                </a:rPr>
                <a:t>Demograp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Ge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Household 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Marital Sta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Home Own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Work 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Edu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Langua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Family Inco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Personal Inco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1939680" y="1865160"/>
              <a:ext cx="0" cy="3862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1940040" y="2286000"/>
            <a:ext cx="1412280" cy="3123720"/>
            <a:chOff x="1940040" y="2286000"/>
            <a:chExt cx="1412280" cy="3123720"/>
          </a:xfrm>
        </p:grpSpPr>
        <p:sp>
          <p:nvSpPr>
            <p:cNvPr id="181" name="Rectangle 9">
              <a:hlinkClick r:id="rId1" action="ppaction://hlinksldjump"/>
            </p:cNvPr>
            <p:cNvSpPr/>
            <p:nvPr/>
          </p:nvSpPr>
          <p:spPr>
            <a:xfrm>
              <a:off x="1940040" y="2559960"/>
              <a:ext cx="1098720" cy="20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Univers"/>
                </a:rPr>
                <a:t>Me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Pr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T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Outdo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Cin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3352320" y="2286000"/>
              <a:ext cx="0" cy="3123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3352680" y="2895480"/>
            <a:ext cx="1295640" cy="1904760"/>
            <a:chOff x="3352680" y="2895480"/>
            <a:chExt cx="1295640" cy="1904760"/>
          </a:xfrm>
        </p:grpSpPr>
        <p:sp>
          <p:nvSpPr>
            <p:cNvPr id="184" name="Rectangle 12">
              <a:hlinkClick r:id="rId2" action="ppaction://hlinksldjump"/>
            </p:cNvPr>
            <p:cNvSpPr/>
            <p:nvPr/>
          </p:nvSpPr>
          <p:spPr>
            <a:xfrm>
              <a:off x="3352680" y="3049200"/>
              <a:ext cx="129564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Univers"/>
                </a:rPr>
                <a:t>Products</a:t>
              </a:r>
              <a:br>
                <a:rPr sz="2000"/>
              </a:b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18 sec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c.5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c.15,0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Univers"/>
                </a:rPr>
                <a:t>bra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576320" y="2895480"/>
              <a:ext cx="0" cy="1904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4"/>
          <p:cNvSpPr/>
          <p:nvPr/>
        </p:nvSpPr>
        <p:spPr>
          <a:xfrm>
            <a:off x="1905120" y="1676520"/>
            <a:ext cx="144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>
            <a:hlinkClick r:id="rId3" action="ppaction://hlinksldjump"/>
          </p:cNvPr>
          <p:cNvSpPr/>
          <p:nvPr/>
        </p:nvSpPr>
        <p:spPr>
          <a:xfrm>
            <a:off x="3352680" y="1752480"/>
            <a:ext cx="12193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>
            <a:hlinkClick r:id="rId4" action="ppaction://hlinksldjump"/>
          </p:cNvPr>
          <p:cNvSpPr/>
          <p:nvPr/>
        </p:nvSpPr>
        <p:spPr>
          <a:xfrm>
            <a:off x="3352680" y="1981080"/>
            <a:ext cx="12193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0120" y="45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What is TGI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1981080" y="2133720"/>
            <a:ext cx="144792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3809880" y="1600200"/>
            <a:ext cx="1371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>
            <a:hlinkClick r:id="rId5" action="ppaction://hlinksldjump"/>
          </p:cNvPr>
          <p:cNvSpPr/>
          <p:nvPr/>
        </p:nvSpPr>
        <p:spPr>
          <a:xfrm>
            <a:off x="472428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7" descr=""/>
          <p:cNvPicPr/>
          <p:nvPr/>
        </p:nvPicPr>
        <p:blipFill>
          <a:blip r:embed="rId6"/>
          <a:srcRect l="139" t="9634" r="0" b="14644"/>
          <a:stretch/>
        </p:blipFill>
        <p:spPr>
          <a:xfrm>
            <a:off x="0" y="1095480"/>
            <a:ext cx="6469200" cy="141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8" descr=""/>
          <p:cNvPicPr/>
          <p:nvPr/>
        </p:nvPicPr>
        <p:blipFill>
          <a:blip r:embed="rId7"/>
          <a:srcRect l="3567" t="9634" r="0" b="14644"/>
          <a:stretch/>
        </p:blipFill>
        <p:spPr>
          <a:xfrm>
            <a:off x="2901960" y="1095480"/>
            <a:ext cx="6246720" cy="141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"/>
          <p:cNvPicPr/>
          <p:nvPr/>
        </p:nvPicPr>
        <p:blipFill>
          <a:blip r:embed="rId8"/>
          <a:stretch/>
        </p:blipFill>
        <p:spPr>
          <a:xfrm>
            <a:off x="8163000" y="162000"/>
            <a:ext cx="76824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152280" y="152280"/>
            <a:ext cx="8610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149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ctivities in the last 12 mont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24000" y="762120"/>
          <a:ext cx="6076800" cy="5562360"/>
        </p:xfrm>
        <a:graphic>
          <a:graphicData uri="http://schemas.openxmlformats.org/drawingml/2006/table">
            <a:tbl>
              <a:tblPr/>
              <a:tblGrid>
                <a:gridCol w="4668840"/>
                <a:gridCol w="14079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ces Visi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V Vie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al Conv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 La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Fest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de Exhib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erary Fest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rts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us Fest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ury\Jewelry La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bai Shopping Fest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 Art Exhib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pSp>
        <p:nvGrpSpPr>
          <p:cNvPr id="502" name="Group 77"/>
          <p:cNvGrpSpPr/>
          <p:nvPr/>
        </p:nvGrpSpPr>
        <p:grpSpPr>
          <a:xfrm>
            <a:off x="6394680" y="1719360"/>
            <a:ext cx="2442960" cy="2074680"/>
            <a:chOff x="6394680" y="1719360"/>
            <a:chExt cx="2442960" cy="2074680"/>
          </a:xfrm>
        </p:grpSpPr>
        <p:sp>
          <p:nvSpPr>
            <p:cNvPr id="503" name="AutoShape 78"/>
            <p:cNvSpPr/>
            <p:nvPr/>
          </p:nvSpPr>
          <p:spPr>
            <a:xfrm>
              <a:off x="8155080" y="1719360"/>
              <a:ext cx="682560" cy="2074680"/>
            </a:xfrm>
            <a:prstGeom prst="upArrow">
              <a:avLst>
                <a:gd name="adj1" fmla="val 50000"/>
                <a:gd name="adj2" fmla="val 75989"/>
              </a:avLst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79"/>
            <p:cNvSpPr/>
            <p:nvPr/>
          </p:nvSpPr>
          <p:spPr>
            <a:xfrm>
              <a:off x="6394680" y="260964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More like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80"/>
          <p:cNvGrpSpPr/>
          <p:nvPr/>
        </p:nvGrpSpPr>
        <p:grpSpPr>
          <a:xfrm>
            <a:off x="6480720" y="4020840"/>
            <a:ext cx="2358000" cy="2074680"/>
            <a:chOff x="6480720" y="4020840"/>
            <a:chExt cx="2358000" cy="2074680"/>
          </a:xfrm>
        </p:grpSpPr>
        <p:sp>
          <p:nvSpPr>
            <p:cNvPr id="506" name="AutoShape 81"/>
            <p:cNvSpPr/>
            <p:nvPr/>
          </p:nvSpPr>
          <p:spPr>
            <a:xfrm flipV="1">
              <a:off x="8156520" y="4020480"/>
              <a:ext cx="682200" cy="2074680"/>
            </a:xfrm>
            <a:prstGeom prst="upArrow">
              <a:avLst>
                <a:gd name="adj1" fmla="val 50000"/>
                <a:gd name="adj2" fmla="val 76029"/>
              </a:avLst>
            </a:prstGeom>
            <a:solidFill>
              <a:srgbClr val="0000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82"/>
            <p:cNvSpPr/>
            <p:nvPr/>
          </p:nvSpPr>
          <p:spPr>
            <a:xfrm>
              <a:off x="6480720" y="47131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Less like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533520" y="187200"/>
            <a:ext cx="8001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Calibri"/>
              </a:rPr>
              <a:t>Advertising is an important factor when deciding on purch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0" y="1233360"/>
            <a:ext cx="9144000" cy="337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ad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vertising plays a key role in their purchasing dec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177840" y="2214720"/>
            <a:ext cx="5711760" cy="388620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246240" y="2544840"/>
            <a:ext cx="55465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V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582480" y="1655640"/>
            <a:ext cx="79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dvertising as the most important deciding factor when buy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0" descr="lcdtvcombo"/>
          <p:cNvPicPr/>
          <p:nvPr/>
        </p:nvPicPr>
        <p:blipFill>
          <a:blip r:embed="rId1"/>
          <a:stretch/>
        </p:blipFill>
        <p:spPr>
          <a:xfrm>
            <a:off x="6603840" y="2349360"/>
            <a:ext cx="1702080" cy="1702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clothes"/>
          <p:cNvPicPr/>
          <p:nvPr/>
        </p:nvPicPr>
        <p:blipFill>
          <a:blip r:embed="rId2"/>
          <a:stretch/>
        </p:blipFill>
        <p:spPr>
          <a:xfrm>
            <a:off x="655308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3" descr="AMP3WATCH"/>
          <p:cNvPicPr/>
          <p:nvPr/>
        </p:nvPicPr>
        <p:blipFill>
          <a:blip r:embed="rId3"/>
          <a:stretch/>
        </p:blipFill>
        <p:spPr>
          <a:xfrm>
            <a:off x="3924360" y="25527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4" descr="o2_XphoneII_mobile_phone_image"/>
          <p:cNvPicPr/>
          <p:nvPr/>
        </p:nvPicPr>
        <p:blipFill>
          <a:blip r:embed="rId4"/>
          <a:stretch/>
        </p:blipFill>
        <p:spPr>
          <a:xfrm>
            <a:off x="5334120" y="3809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5" descr="mens-shoes_965832"/>
          <p:cNvPicPr/>
          <p:nvPr/>
        </p:nvPicPr>
        <p:blipFill>
          <a:blip r:embed="rId5"/>
          <a:stretch/>
        </p:blipFill>
        <p:spPr>
          <a:xfrm>
            <a:off x="4000680" y="4419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64008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1143000" y="1981080"/>
            <a:ext cx="2743200" cy="3733560"/>
            <a:chOff x="1143000" y="1981080"/>
            <a:chExt cx="2743200" cy="3733560"/>
          </a:xfrm>
        </p:grpSpPr>
        <p:sp>
          <p:nvSpPr>
            <p:cNvPr id="520" name="Line 4"/>
            <p:cNvSpPr/>
            <p:nvPr/>
          </p:nvSpPr>
          <p:spPr>
            <a:xfrm>
              <a:off x="1828800" y="51814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5"/>
            <p:cNvSpPr/>
            <p:nvPr/>
          </p:nvSpPr>
          <p:spPr>
            <a:xfrm>
              <a:off x="1143000" y="19810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6"/>
            <p:cNvSpPr/>
            <p:nvPr/>
          </p:nvSpPr>
          <p:spPr>
            <a:xfrm>
              <a:off x="1828800" y="19810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>
              <a:off x="1828800" y="25142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8"/>
            <p:cNvSpPr/>
            <p:nvPr/>
          </p:nvSpPr>
          <p:spPr>
            <a:xfrm>
              <a:off x="2514600" y="25142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9"/>
            <p:cNvSpPr/>
            <p:nvPr/>
          </p:nvSpPr>
          <p:spPr>
            <a:xfrm>
              <a:off x="2514600" y="304776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0"/>
            <p:cNvSpPr/>
            <p:nvPr/>
          </p:nvSpPr>
          <p:spPr>
            <a:xfrm>
              <a:off x="3200400" y="304776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1"/>
            <p:cNvSpPr/>
            <p:nvPr/>
          </p:nvSpPr>
          <p:spPr>
            <a:xfrm>
              <a:off x="3200400" y="35812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2"/>
            <p:cNvSpPr/>
            <p:nvPr/>
          </p:nvSpPr>
          <p:spPr>
            <a:xfrm>
              <a:off x="3886200" y="35812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3"/>
            <p:cNvSpPr/>
            <p:nvPr/>
          </p:nvSpPr>
          <p:spPr>
            <a:xfrm>
              <a:off x="3200400" y="41144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4"/>
            <p:cNvSpPr/>
            <p:nvPr/>
          </p:nvSpPr>
          <p:spPr>
            <a:xfrm>
              <a:off x="2514600" y="464796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3200400" y="41144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2514600" y="464796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1828800" y="5181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8"/>
            <p:cNvSpPr/>
            <p:nvPr/>
          </p:nvSpPr>
          <p:spPr>
            <a:xfrm>
              <a:off x="1143000" y="57146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19"/>
          <p:cNvSpPr/>
          <p:nvPr/>
        </p:nvSpPr>
        <p:spPr>
          <a:xfrm>
            <a:off x="457200" y="152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In Depth TV Viewer profile example: 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M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1143000" y="160020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tarbucks seems to be their preferred destination when it comes to coffee sh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2590920" y="2651040"/>
            <a:ext cx="632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y favor Pepsi when it comes to drinking carbonated soft drin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1981080" y="2133720"/>
            <a:ext cx="685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ve an high affinity to “eat” in Pizza Hut when it comes to restaura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3276720" y="3200400"/>
            <a:ext cx="6095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arina Mall seems to be their favoured destination to 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1935720" y="5318280"/>
            <a:ext cx="630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hen it comes to buying jeans, Giordano seems to be their favori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6"/>
          <p:cNvSpPr/>
          <p:nvPr/>
        </p:nvSpPr>
        <p:spPr>
          <a:xfrm>
            <a:off x="1143000" y="585144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nd to deal with Dubai Islamic bank when it comes to financial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3276720" y="4114800"/>
            <a:ext cx="6095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wn a Toyota Camry when it comes to ca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2590920" y="470844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hen it comes to potato chips they seem to prefer Oman the mo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9" descr="MBC1"/>
          <p:cNvPicPr/>
          <p:nvPr/>
        </p:nvPicPr>
        <p:blipFill>
          <a:blip r:embed="rId1"/>
          <a:stretch/>
        </p:blipFill>
        <p:spPr>
          <a:xfrm>
            <a:off x="676440" y="3400560"/>
            <a:ext cx="1761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14480" y="119160"/>
            <a:ext cx="87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dvanc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304920" y="1600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1180"/>
                </a:solidFill>
                <a:latin typeface="Calibri"/>
              </a:rPr>
              <a:t>Correspondenc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80880" y="2362320"/>
            <a:ext cx="8153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spondence Analysis is a market segmentation technique that visually represents the relationship between variables in the market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provides a graphic, two-dimensional representation of a cross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ugh correspondence mapping users can measure the relationships between attitudinal statements, the correlation between brands and also how different brands relate to the statements selected for the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6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82040" cy="5257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"/>
          <p:cNvPicPr/>
          <p:nvPr/>
        </p:nvPicPr>
        <p:blipFill>
          <a:blip r:embed="rId2"/>
          <a:stretch/>
        </p:blipFill>
        <p:spPr>
          <a:xfrm>
            <a:off x="272880" y="1219320"/>
            <a:ext cx="8596440" cy="52578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114480" y="119160"/>
            <a:ext cx="87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erceptual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4"/>
          <p:cNvGrpSpPr/>
          <p:nvPr/>
        </p:nvGrpSpPr>
        <p:grpSpPr>
          <a:xfrm>
            <a:off x="4911120" y="1447560"/>
            <a:ext cx="1641960" cy="2526840"/>
            <a:chOff x="4911120" y="1447560"/>
            <a:chExt cx="1641960" cy="2526840"/>
          </a:xfrm>
        </p:grpSpPr>
        <p:sp>
          <p:nvSpPr>
            <p:cNvPr id="552" name="Line 10"/>
            <p:cNvSpPr/>
            <p:nvPr/>
          </p:nvSpPr>
          <p:spPr>
            <a:xfrm flipV="1">
              <a:off x="5029200" y="1828440"/>
              <a:ext cx="0" cy="2133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2"/>
            <p:cNvSpPr/>
            <p:nvPr/>
          </p:nvSpPr>
          <p:spPr>
            <a:xfrm flipV="1">
              <a:off x="5029200" y="1447560"/>
              <a:ext cx="1523880" cy="2514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3"/>
            <p:cNvSpPr/>
            <p:nvPr/>
          </p:nvSpPr>
          <p:spPr>
            <a:xfrm rot="11615400">
              <a:off x="4952520" y="3571920"/>
              <a:ext cx="228600" cy="38088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22"/>
          <p:cNvGrpSpPr/>
          <p:nvPr/>
        </p:nvGrpSpPr>
        <p:grpSpPr>
          <a:xfrm>
            <a:off x="151920" y="1828440"/>
            <a:ext cx="4877280" cy="2133720"/>
            <a:chOff x="151920" y="1828440"/>
            <a:chExt cx="4877280" cy="2133720"/>
          </a:xfrm>
        </p:grpSpPr>
        <p:sp>
          <p:nvSpPr>
            <p:cNvPr id="556" name="Line 15"/>
            <p:cNvSpPr/>
            <p:nvPr/>
          </p:nvSpPr>
          <p:spPr>
            <a:xfrm flipH="1" flipV="1">
              <a:off x="151920" y="3657240"/>
              <a:ext cx="4876920" cy="3049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6"/>
            <p:cNvSpPr/>
            <p:nvPr/>
          </p:nvSpPr>
          <p:spPr>
            <a:xfrm flipV="1">
              <a:off x="5029200" y="1828440"/>
              <a:ext cx="0" cy="21337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0"/>
            <p:cNvSpPr/>
            <p:nvPr/>
          </p:nvSpPr>
          <p:spPr>
            <a:xfrm rot="16200000">
              <a:off x="4647960" y="3580920"/>
              <a:ext cx="304920" cy="45720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24"/>
          <p:cNvSpPr/>
          <p:nvPr/>
        </p:nvSpPr>
        <p:spPr>
          <a:xfrm>
            <a:off x="1295280" y="1157400"/>
            <a:ext cx="3175200" cy="1890720"/>
          </a:xfrm>
          <a:prstGeom prst="wedgeRoundRectCallout">
            <a:avLst>
              <a:gd name="adj1" fmla="val 23949"/>
              <a:gd name="adj2" fmla="val 71157"/>
              <a:gd name="adj3" fmla="val 16667"/>
            </a:avLst>
          </a:prstGeom>
          <a:solidFill>
            <a:srgbClr val="333399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attitude of the TV viewers, MBC 2 and Dubai TV are close to each other. This is shown by the small angle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5"/>
          <p:cNvSpPr/>
          <p:nvPr/>
        </p:nvSpPr>
        <p:spPr>
          <a:xfrm>
            <a:off x="1676520" y="4361040"/>
            <a:ext cx="2590560" cy="1430280"/>
          </a:xfrm>
          <a:prstGeom prst="wedgeRoundRectCallout">
            <a:avLst>
              <a:gd name="adj1" fmla="val 18750"/>
              <a:gd name="adj2" fmla="val -62541"/>
              <a:gd name="adj3" fmla="val 16667"/>
            </a:avLst>
          </a:prstGeom>
          <a:solidFill>
            <a:srgbClr val="333399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 angle implies that the stations are far apart, example: Abu Dhabi TV &amp; Al Jaze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7"/>
          <p:cNvSpPr/>
          <p:nvPr/>
        </p:nvSpPr>
        <p:spPr>
          <a:xfrm>
            <a:off x="6095880" y="4952880"/>
            <a:ext cx="2286000" cy="1297080"/>
          </a:xfrm>
          <a:prstGeom prst="wedgeRoundRectCallout">
            <a:avLst>
              <a:gd name="adj1" fmla="val -22013"/>
              <a:gd name="adj2" fmla="val -75337"/>
              <a:gd name="adj3" fmla="val 16667"/>
            </a:avLst>
          </a:prstGeom>
          <a:solidFill>
            <a:srgbClr val="333399">
              <a:alpha val="4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 now reveals which attitudes are closest to which b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1295280" y="1828800"/>
          <a:ext cx="7086600" cy="444168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52704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looking forward to services such as shopping on my T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904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-TV offered me a much wider viewing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904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ly all TV advertising annoys 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940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growth in TV stations is diluting the quality of tel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4f4f"/>
                    </a:solidFill>
                  </a:tcPr>
                </a:tc>
              </a:tr>
              <a:tr h="55800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e often I find TV advertising more entertaining than the progra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4f4f"/>
                    </a:solidFill>
                  </a:tcPr>
                </a:tc>
              </a:tr>
              <a:tr h="41940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far too many adverts on TV to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161ff"/>
                    </a:solidFill>
                  </a:tcPr>
                </a:tc>
              </a:tr>
              <a:tr h="42048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hink people rely too much on TV for relax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747ff"/>
                    </a:solidFill>
                  </a:tcPr>
                </a:tc>
              </a:tr>
              <a:tr h="42228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 TV add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2084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elevision I enjoy the adverts as much as the progra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16160">
                <a:tc>
                  <a:txBody>
                    <a:bodyPr lIns="45720" rIns="9000" tIns="900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ike the idea of digital T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sp>
        <p:nvSpPr>
          <p:cNvPr id="563" name="Down Arrow 9"/>
          <p:cNvSpPr/>
          <p:nvPr/>
        </p:nvSpPr>
        <p:spPr>
          <a:xfrm>
            <a:off x="685800" y="4495680"/>
            <a:ext cx="457200" cy="1752840"/>
          </a:xfrm>
          <a:prstGeom prst="downArrow">
            <a:avLst>
              <a:gd name="adj1" fmla="val 50000"/>
              <a:gd name="adj2" fmla="val 46006"/>
            </a:avLst>
          </a:prstGeom>
          <a:solidFill>
            <a:srgbClr val="0000cc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-ve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Up Arrow 8"/>
          <p:cNvSpPr/>
          <p:nvPr/>
        </p:nvSpPr>
        <p:spPr>
          <a:xfrm>
            <a:off x="685800" y="1828800"/>
            <a:ext cx="457200" cy="25909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0"/>
          <p:cNvSpPr/>
          <p:nvPr/>
        </p:nvSpPr>
        <p:spPr>
          <a:xfrm rot="16200000">
            <a:off x="-356760" y="3099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ositive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8"/>
          <p:cNvSpPr/>
          <p:nvPr/>
        </p:nvSpPr>
        <p:spPr>
          <a:xfrm>
            <a:off x="1841760" y="304200"/>
            <a:ext cx="59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BC 2 Psychographic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114480" y="123840"/>
            <a:ext cx="87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dvanc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3049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21180"/>
                </a:solidFill>
                <a:latin typeface="Calibri"/>
              </a:rPr>
              <a:t>Clu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380880" y="2362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uster Analysis can be used to gain an understanding of the market place according to attitudes, painting a richer picture of the motivations of consumers that cannot be achieved through demographic correlations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s that are apparently homogeneous on the surface can be analyzed to reveal deeper distinguish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can create respondents groupings characterized by their similar responses to a battery of attitudinal statements. These groups can prove to be very powerful discriminators within a given mar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expect advertising to be entertain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find advertising a waste of my 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find TV advertising interesting and quite often it gives me something to talk abo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ite often I find TV advertising more entertaining than the progra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like the idea of having a large selection of TV chann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rely on TV to keep me inform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think quite a lot of TV advertising is devio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think people rely too much on TV for relax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vertising helps me choose what I bu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y-TV offered me a much wider viewing cho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re are far too many adverts on TV to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arly all TV advertising annoys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like the idea of digital T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am looking forward to services such as shopping on my T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often record a programme on TV then Don't get a chance to watch 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1" name="Object 3"/>
          <p:cNvGraphicFramePr/>
          <p:nvPr/>
        </p:nvGraphicFramePr>
        <p:xfrm>
          <a:off x="495936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936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AutoShape 4"/>
          <p:cNvSpPr/>
          <p:nvPr/>
        </p:nvSpPr>
        <p:spPr>
          <a:xfrm>
            <a:off x="4648320" y="1371600"/>
            <a:ext cx="533160" cy="4800600"/>
          </a:xfrm>
          <a:custGeom>
            <a:avLst/>
            <a:gdLst>
              <a:gd name="textAreaLeft" fmla="*/ 0 w 533160"/>
              <a:gd name="textAreaRight" fmla="*/ 192600 w 53316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76320" y="152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luster Analy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V &amp; Media  Relat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28600" y="1143000"/>
          <a:ext cx="8077320" cy="525780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2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em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ook out for new and interesting products and brands when I am shop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4f4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use diet food and drink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58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al issues affect my brand ch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58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 tempted to buy products I've seen advert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careful about what I e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make sure I take 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buy goods produced by my own country whenever I c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njoy eating foreign 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k food is part of my life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rarely sit down to a meal together at 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on't have time to spend preparing and cooking 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964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ike to eat take-away me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964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think fast food is all ju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964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ook for the lowest possible prices when I go shop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964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is the best measure of 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96499"/>
                    </a:solidFill>
                  </a:tcPr>
                </a:tc>
              </a:tr>
            </a:tbl>
          </a:graphicData>
        </a:graphic>
      </p:graphicFrame>
      <p:sp>
        <p:nvSpPr>
          <p:cNvPr id="577" name="Down Arrow 9"/>
          <p:cNvSpPr/>
          <p:nvPr/>
        </p:nvSpPr>
        <p:spPr>
          <a:xfrm>
            <a:off x="8534520" y="3886200"/>
            <a:ext cx="457200" cy="2360520"/>
          </a:xfrm>
          <a:prstGeom prst="downArrow">
            <a:avLst>
              <a:gd name="adj1" fmla="val 50000"/>
              <a:gd name="adj2" fmla="val 61956"/>
            </a:avLst>
          </a:prstGeom>
          <a:solidFill>
            <a:srgbClr val="4f81bd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Negative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Up Arrow 8"/>
          <p:cNvSpPr/>
          <p:nvPr/>
        </p:nvSpPr>
        <p:spPr>
          <a:xfrm>
            <a:off x="8534520" y="1447920"/>
            <a:ext cx="457200" cy="2287440"/>
          </a:xfrm>
          <a:prstGeom prst="upArrow">
            <a:avLst>
              <a:gd name="adj1" fmla="val 50000"/>
              <a:gd name="adj2" fmla="val 45492"/>
            </a:avLst>
          </a:pr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0"/>
          <p:cNvSpPr/>
          <p:nvPr/>
        </p:nvSpPr>
        <p:spPr>
          <a:xfrm rot="16200000">
            <a:off x="7301520" y="2679840"/>
            <a:ext cx="289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ositive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GI tells you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640" y="1238040"/>
            <a:ext cx="7432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o to targ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mographics/Product users/Brand u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makes them different from the avera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fe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to target the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484200" y="1752480"/>
            <a:ext cx="404640" cy="4017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484200" y="3333600"/>
            <a:ext cx="404640" cy="4017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" descr=""/>
          <p:cNvPicPr/>
          <p:nvPr/>
        </p:nvPicPr>
        <p:blipFill>
          <a:blip r:embed="rId3"/>
          <a:stretch/>
        </p:blipFill>
        <p:spPr>
          <a:xfrm>
            <a:off x="484200" y="4957920"/>
            <a:ext cx="404640" cy="40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I was first introduced in England in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GI is currently used by business in more than 50 countries across 5 conti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e Middle East, TGI is being used in the following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is TGI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3433680"/>
          <a:ext cx="8305920" cy="2667240"/>
        </p:xfrm>
        <a:graphic>
          <a:graphicData uri="http://schemas.openxmlformats.org/drawingml/2006/table">
            <a:tbl>
              <a:tblPr/>
              <a:tblGrid>
                <a:gridCol w="2341440"/>
                <a:gridCol w="1892520"/>
                <a:gridCol w="2178000"/>
                <a:gridCol w="189396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le S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le S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wa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ban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Picture 194" descr=""/>
          <p:cNvPicPr/>
          <p:nvPr/>
        </p:nvPicPr>
        <p:blipFill>
          <a:blip r:embed="rId1"/>
          <a:srcRect l="139" t="9634" r="0" b="14644"/>
          <a:stretch/>
        </p:blipFill>
        <p:spPr>
          <a:xfrm>
            <a:off x="0" y="1095480"/>
            <a:ext cx="6469200" cy="14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95" descr=""/>
          <p:cNvPicPr/>
          <p:nvPr/>
        </p:nvPicPr>
        <p:blipFill>
          <a:blip r:embed="rId2"/>
          <a:srcRect l="3567" t="9634" r="0" b="14644"/>
          <a:stretch/>
        </p:blipFill>
        <p:spPr>
          <a:xfrm>
            <a:off x="2901960" y="1095480"/>
            <a:ext cx="6246720" cy="141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6" descr=""/>
          <p:cNvPicPr/>
          <p:nvPr/>
        </p:nvPicPr>
        <p:blipFill>
          <a:blip r:embed="rId3"/>
          <a:stretch/>
        </p:blipFill>
        <p:spPr>
          <a:xfrm>
            <a:off x="8163000" y="162000"/>
            <a:ext cx="76824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2712960" y="1463760"/>
            <a:ext cx="3674880" cy="3926880"/>
            <a:chOff x="2712960" y="1463760"/>
            <a:chExt cx="3674880" cy="3926880"/>
          </a:xfrm>
        </p:grpSpPr>
        <p:sp>
          <p:nvSpPr>
            <p:cNvPr id="586" name="Rectangle 3"/>
            <p:cNvSpPr/>
            <p:nvPr/>
          </p:nvSpPr>
          <p:spPr>
            <a:xfrm>
              <a:off x="2712960" y="1463760"/>
              <a:ext cx="3674880" cy="39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4" descr="TGITARG1"/>
            <p:cNvPicPr/>
            <p:nvPr/>
          </p:nvPicPr>
          <p:blipFill>
            <a:blip r:embed="rId1"/>
            <a:stretch/>
          </p:blipFill>
          <p:spPr>
            <a:xfrm>
              <a:off x="3110400" y="1900080"/>
              <a:ext cx="2880000" cy="305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28520" y="1969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mpl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762120" y="1981080"/>
            <a:ext cx="2361960" cy="45720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AE: 8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52280" y="2614680"/>
            <a:ext cx="381240" cy="3808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1066680" y="2614680"/>
            <a:ext cx="381240" cy="3808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609480" y="2614680"/>
            <a:ext cx="381240" cy="3808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352680" y="2614680"/>
            <a:ext cx="381240" cy="3808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838080" y="3538440"/>
            <a:ext cx="2210040" cy="34776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ministrativ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152280" y="2590920"/>
            <a:ext cx="381240" cy="3808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"/>
          <p:cNvGrpSpPr/>
          <p:nvPr/>
        </p:nvGrpSpPr>
        <p:grpSpPr>
          <a:xfrm>
            <a:off x="304920" y="2971800"/>
            <a:ext cx="1523880" cy="533520"/>
            <a:chOff x="304920" y="2971800"/>
            <a:chExt cx="1523880" cy="533520"/>
          </a:xfrm>
        </p:grpSpPr>
        <p:sp>
          <p:nvSpPr>
            <p:cNvPr id="211" name="Line 11"/>
            <p:cNvSpPr/>
            <p:nvPr/>
          </p:nvSpPr>
          <p:spPr>
            <a:xfrm>
              <a:off x="304920" y="2971800"/>
              <a:ext cx="0" cy="3049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304920" y="3276720"/>
              <a:ext cx="152388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>
              <a:off x="1828800" y="3276720"/>
              <a:ext cx="0" cy="228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4"/>
          <p:cNvSpPr/>
          <p:nvPr/>
        </p:nvSpPr>
        <p:spPr>
          <a:xfrm>
            <a:off x="985680" y="298620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Each region is broken i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1219320" y="4114800"/>
            <a:ext cx="1523880" cy="1143000"/>
            <a:chOff x="1219320" y="4114800"/>
            <a:chExt cx="1523880" cy="1143000"/>
          </a:xfrm>
        </p:grpSpPr>
        <p:sp>
          <p:nvSpPr>
            <p:cNvPr id="216" name="AutoShape 16"/>
            <p:cNvSpPr/>
            <p:nvPr/>
          </p:nvSpPr>
          <p:spPr>
            <a:xfrm>
              <a:off x="1219320" y="4114800"/>
              <a:ext cx="1523880" cy="114300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7"/>
            <p:cNvGrpSpPr/>
            <p:nvPr/>
          </p:nvGrpSpPr>
          <p:grpSpPr>
            <a:xfrm>
              <a:off x="1268280" y="4164120"/>
              <a:ext cx="1425600" cy="1043280"/>
              <a:chOff x="1268280" y="4164120"/>
              <a:chExt cx="1425600" cy="1043280"/>
            </a:xfrm>
          </p:grpSpPr>
          <p:sp>
            <p:nvSpPr>
              <p:cNvPr id="218" name="AutoShape 18"/>
              <p:cNvSpPr/>
              <p:nvPr/>
            </p:nvSpPr>
            <p:spPr>
              <a:xfrm>
                <a:off x="1268280" y="4164120"/>
                <a:ext cx="688320" cy="496800"/>
              </a:xfrm>
              <a:prstGeom prst="roundRect">
                <a:avLst>
                  <a:gd name="adj" fmla="val 16667"/>
                </a:avLst>
              </a:prstGeom>
              <a:solidFill>
                <a:srgbClr val="3366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19"/>
              <p:cNvSpPr/>
              <p:nvPr/>
            </p:nvSpPr>
            <p:spPr>
              <a:xfrm>
                <a:off x="2005560" y="4164120"/>
                <a:ext cx="688320" cy="496800"/>
              </a:xfrm>
              <a:prstGeom prst="roundRect">
                <a:avLst>
                  <a:gd name="adj" fmla="val 16667"/>
                </a:avLst>
              </a:prstGeom>
              <a:solidFill>
                <a:srgbClr val="3366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20"/>
              <p:cNvSpPr/>
              <p:nvPr/>
            </p:nvSpPr>
            <p:spPr>
              <a:xfrm>
                <a:off x="1268280" y="4710600"/>
                <a:ext cx="688320" cy="496800"/>
              </a:xfrm>
              <a:prstGeom prst="roundRect">
                <a:avLst>
                  <a:gd name="adj" fmla="val 16667"/>
                </a:avLst>
              </a:prstGeom>
              <a:solidFill>
                <a:srgbClr val="3366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21"/>
              <p:cNvSpPr/>
              <p:nvPr/>
            </p:nvSpPr>
            <p:spPr>
              <a:xfrm>
                <a:off x="2005560" y="4710600"/>
                <a:ext cx="688320" cy="496800"/>
              </a:xfrm>
              <a:prstGeom prst="roundRect">
                <a:avLst>
                  <a:gd name="adj" fmla="val 16667"/>
                </a:avLst>
              </a:prstGeom>
              <a:solidFill>
                <a:srgbClr val="3366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Rectangle 22"/>
          <p:cNvSpPr/>
          <p:nvPr/>
        </p:nvSpPr>
        <p:spPr>
          <a:xfrm>
            <a:off x="1433520" y="4495680"/>
            <a:ext cx="1066680" cy="333360"/>
          </a:xfrm>
          <a:prstGeom prst="rect">
            <a:avLst/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3"/>
          <p:cNvSpPr/>
          <p:nvPr/>
        </p:nvSpPr>
        <p:spPr>
          <a:xfrm>
            <a:off x="2000160" y="4710240"/>
            <a:ext cx="689040" cy="49680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828800" y="3886200"/>
            <a:ext cx="0" cy="228600"/>
          </a:xfrm>
          <a:prstGeom prst="line">
            <a:avLst/>
          </a:prstGeom>
          <a:ln w="93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2743200" y="5105520"/>
            <a:ext cx="609480" cy="228600"/>
          </a:xfrm>
          <a:prstGeom prst="rect">
            <a:avLst/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6" descr="house-block-small"/>
          <p:cNvPicPr/>
          <p:nvPr/>
        </p:nvPicPr>
        <p:blipFill>
          <a:blip r:embed="rId1"/>
          <a:stretch/>
        </p:blipFill>
        <p:spPr>
          <a:xfrm>
            <a:off x="2500200" y="5421240"/>
            <a:ext cx="381240" cy="335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7" descr="house-block-small"/>
          <p:cNvPicPr/>
          <p:nvPr/>
        </p:nvPicPr>
        <p:blipFill>
          <a:blip r:embed="rId2"/>
          <a:stretch/>
        </p:blipFill>
        <p:spPr>
          <a:xfrm>
            <a:off x="2909880" y="5424480"/>
            <a:ext cx="380880" cy="334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8" descr="house-block-small"/>
          <p:cNvPicPr/>
          <p:nvPr/>
        </p:nvPicPr>
        <p:blipFill>
          <a:blip r:embed="rId3"/>
          <a:stretch/>
        </p:blipFill>
        <p:spPr>
          <a:xfrm>
            <a:off x="3338640" y="5424480"/>
            <a:ext cx="380880" cy="334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9" descr="house-block-small"/>
          <p:cNvPicPr/>
          <p:nvPr/>
        </p:nvPicPr>
        <p:blipFill>
          <a:blip r:embed="rId4"/>
          <a:stretch/>
        </p:blipFill>
        <p:spPr>
          <a:xfrm>
            <a:off x="2514600" y="5757840"/>
            <a:ext cx="380880" cy="335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0" descr="house-block-small"/>
          <p:cNvPicPr/>
          <p:nvPr/>
        </p:nvPicPr>
        <p:blipFill>
          <a:blip r:embed="rId5"/>
          <a:stretch/>
        </p:blipFill>
        <p:spPr>
          <a:xfrm>
            <a:off x="2924280" y="5761080"/>
            <a:ext cx="380880" cy="33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1" descr="house-block-small"/>
          <p:cNvPicPr/>
          <p:nvPr/>
        </p:nvPicPr>
        <p:blipFill>
          <a:blip r:embed="rId6"/>
          <a:stretch/>
        </p:blipFill>
        <p:spPr>
          <a:xfrm>
            <a:off x="3352680" y="5761080"/>
            <a:ext cx="381240" cy="334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2"/>
          <p:cNvSpPr/>
          <p:nvPr/>
        </p:nvSpPr>
        <p:spPr>
          <a:xfrm>
            <a:off x="2133720" y="6019920"/>
            <a:ext cx="1676160" cy="304560"/>
          </a:xfrm>
          <a:prstGeom prst="rect">
            <a:avLst/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ividual House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3"/>
          <p:cNvSpPr/>
          <p:nvPr/>
        </p:nvSpPr>
        <p:spPr>
          <a:xfrm>
            <a:off x="1509840" y="2619360"/>
            <a:ext cx="1766880" cy="3808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4572000" y="1905120"/>
            <a:ext cx="426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luster consists of a certain number of Blocks. A Block is defined as a small tract of land outlined by streets or roads and contains houses, buildings etc. which are separated by strips of la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household is the Sample Unit, selected at fixed intervals, along a random path drawn inside the Blocks. A fixed number of interviews are conducted within each sample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5" descr=""/>
          <p:cNvPicPr/>
          <p:nvPr/>
        </p:nvPicPr>
        <p:blipFill>
          <a:blip r:embed="rId7"/>
          <a:stretch/>
        </p:blipFill>
        <p:spPr>
          <a:xfrm>
            <a:off x="8163000" y="162000"/>
            <a:ext cx="76824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71045E-006 L 0.03334 0.0444 E">
                                      <p:cBhvr>
                                        <p:cTn id="117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1295280"/>
            <a:ext cx="4581360" cy="2849760"/>
            <a:chOff x="0" y="1295280"/>
            <a:chExt cx="4581360" cy="2849760"/>
          </a:xfrm>
        </p:grpSpPr>
        <p:sp>
          <p:nvSpPr>
            <p:cNvPr id="237" name="Freeform 3"/>
            <p:cNvSpPr/>
            <p:nvPr/>
          </p:nvSpPr>
          <p:spPr>
            <a:xfrm>
              <a:off x="0" y="1295280"/>
              <a:ext cx="4581360" cy="284976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"/>
            <p:cNvSpPr/>
            <p:nvPr/>
          </p:nvSpPr>
          <p:spPr>
            <a:xfrm>
              <a:off x="380880" y="1828800"/>
              <a:ext cx="289584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Univers"/>
                </a:rPr>
                <a:t>PRODUCT FIEL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Univers"/>
                </a:rPr>
                <a:t>(#30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"/>
          <p:cNvGrpSpPr/>
          <p:nvPr/>
        </p:nvGrpSpPr>
        <p:grpSpPr>
          <a:xfrm>
            <a:off x="0" y="3456000"/>
            <a:ext cx="4562640" cy="3402000"/>
            <a:chOff x="0" y="3456000"/>
            <a:chExt cx="4562640" cy="3402000"/>
          </a:xfrm>
        </p:grpSpPr>
        <p:sp>
          <p:nvSpPr>
            <p:cNvPr id="240" name="Freeform 6"/>
            <p:cNvSpPr/>
            <p:nvPr/>
          </p:nvSpPr>
          <p:spPr>
            <a:xfrm>
              <a:off x="0" y="3456000"/>
              <a:ext cx="4562640" cy="340200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457200" y="5105520"/>
              <a:ext cx="28954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6600"/>
                  </a:solidFill>
                  <a:latin typeface="Univers"/>
                </a:rPr>
                <a:t>BRA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6600"/>
                  </a:solidFill>
                  <a:latin typeface="Univers"/>
                </a:rPr>
                <a:t>(#4,00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8"/>
          <p:cNvGrpSpPr/>
          <p:nvPr/>
        </p:nvGrpSpPr>
        <p:grpSpPr>
          <a:xfrm>
            <a:off x="4562640" y="4008600"/>
            <a:ext cx="4581360" cy="2849400"/>
            <a:chOff x="4562640" y="4008600"/>
            <a:chExt cx="4581360" cy="2849400"/>
          </a:xfrm>
        </p:grpSpPr>
        <p:sp>
          <p:nvSpPr>
            <p:cNvPr id="243" name="Freeform 9"/>
            <p:cNvSpPr/>
            <p:nvPr/>
          </p:nvSpPr>
          <p:spPr>
            <a:xfrm>
              <a:off x="4562640" y="4008600"/>
              <a:ext cx="4581360" cy="284940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5943600" y="5105520"/>
              <a:ext cx="2895480" cy="13870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cc"/>
                  </a:solidFill>
                  <a:latin typeface="Univers"/>
                </a:rPr>
                <a:t>ATTITU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cc"/>
                  </a:solidFill>
                  <a:latin typeface="Univers"/>
                </a:rPr>
                <a:t>(LIFESTYL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cc"/>
                  </a:solidFill>
                  <a:latin typeface="Univers"/>
                </a:rPr>
                <a:t>(#30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4581360" y="1295280"/>
            <a:ext cx="4562640" cy="3402000"/>
            <a:chOff x="4581360" y="1295280"/>
            <a:chExt cx="4562640" cy="3402000"/>
          </a:xfrm>
        </p:grpSpPr>
        <p:sp>
          <p:nvSpPr>
            <p:cNvPr id="246" name="Freeform 12"/>
            <p:cNvSpPr/>
            <p:nvPr/>
          </p:nvSpPr>
          <p:spPr>
            <a:xfrm>
              <a:off x="4581360" y="1295280"/>
              <a:ext cx="4562640" cy="3402000"/>
            </a:xfrm>
            <a:prstGeom prst="pie">
              <a:avLst/>
            </a:prstGeom>
            <a:solidFill>
              <a:srgbClr val="0000ff"/>
            </a:solidFill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91320" y="1411200"/>
              <a:ext cx="2895480" cy="2358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8ab4e6"/>
                  </a:solidFill>
                  <a:latin typeface="Univers"/>
                </a:rPr>
                <a:t>MEDI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ab4e6"/>
                  </a:solidFill>
                  <a:latin typeface="Univers"/>
                </a:rPr>
                <a:t>PUB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ab4e6"/>
                  </a:solidFill>
                  <a:latin typeface="Univers"/>
                </a:rPr>
                <a:t>TV VIEW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ab4e6"/>
                  </a:solidFill>
                  <a:latin typeface="Univers"/>
                </a:rPr>
                <a:t>RA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ab4e6"/>
                  </a:solidFill>
                  <a:latin typeface="Univers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ab4e6"/>
                  </a:solidFill>
                  <a:latin typeface="Univers"/>
                </a:rPr>
                <a:t>OUTD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ab4e6"/>
                  </a:solidFill>
                  <a:latin typeface="Univer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14"/>
          <p:cNvSpPr/>
          <p:nvPr/>
        </p:nvSpPr>
        <p:spPr>
          <a:xfrm>
            <a:off x="3429000" y="4724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Univers"/>
              </a:rPr>
              <a:t>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5" descr="b-singlesource"/>
          <p:cNvPicPr/>
          <p:nvPr/>
        </p:nvPicPr>
        <p:blipFill>
          <a:blip r:embed="rId1"/>
          <a:stretch/>
        </p:blipFill>
        <p:spPr>
          <a:xfrm>
            <a:off x="2514600" y="3733920"/>
            <a:ext cx="4114800" cy="761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6"/>
          <p:cNvSpPr/>
          <p:nvPr/>
        </p:nvSpPr>
        <p:spPr>
          <a:xfrm>
            <a:off x="6094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GI Sampling Design &amp;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8" descr=""/>
          <p:cNvPicPr/>
          <p:nvPr/>
        </p:nvPicPr>
        <p:blipFill>
          <a:blip r:embed="rId2"/>
          <a:stretch/>
        </p:blipFill>
        <p:spPr>
          <a:xfrm>
            <a:off x="8163000" y="162000"/>
            <a:ext cx="768240" cy="76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2"/>
          <p:cNvSpPr/>
          <p:nvPr/>
        </p:nvSpPr>
        <p:spPr>
          <a:xfrm>
            <a:off x="3429000" y="3352680"/>
            <a:ext cx="2133720" cy="1219320"/>
          </a:xfrm>
          <a:prstGeom prst="ellipse">
            <a:avLst/>
          </a:prstGeom>
          <a:solidFill>
            <a:srgbClr val="3366ff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3124080" y="5105520"/>
            <a:ext cx="2741760" cy="1199880"/>
          </a:xfrm>
          <a:prstGeom prst="roundRect">
            <a:avLst>
              <a:gd name="adj" fmla="val 16667"/>
            </a:avLst>
          </a:prstGeom>
          <a:solidFill>
            <a:srgbClr val="3366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eight of 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requency of vi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View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30040" y="2057400"/>
            <a:ext cx="2741760" cy="3738600"/>
          </a:xfrm>
          <a:custGeom>
            <a:avLst/>
            <a:gdLst>
              <a:gd name="textAreaLeft" fmla="*/ 133560 w 2741760"/>
              <a:gd name="textAreaRight" fmla="*/ 2608200 w 2741760"/>
              <a:gd name="textAreaTop" fmla="*/ 133560 h 3738600"/>
              <a:gd name="textAreaBottom" fmla="*/ 3605040 h 3738600"/>
            </a:gdLst>
            <a:ahLst/>
            <a:rect l="textAreaLeft" t="textAreaTop" r="textAreaRight" b="textAreaBottom"/>
            <a:pathLst>
              <a:path w="21600" h="29452">
                <a:moveTo>
                  <a:pt x="3600" y="0"/>
                </a:moveTo>
                <a:arcTo wR="3600" hR="3600" stAng="16200000" swAng="-5400000"/>
                <a:lnTo>
                  <a:pt x="0" y="25852"/>
                </a:lnTo>
                <a:arcTo wR="3600" hR="3600" stAng="10800000" swAng="-5400000"/>
                <a:lnTo>
                  <a:pt x="18000" y="29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Local, Pan Ara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Internatio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Pay TV Chann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hannels recei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hannels ever view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oday/yester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st 7 days, longer ag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Hours watched: week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/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3124080" y="1600200"/>
            <a:ext cx="2741760" cy="1219320"/>
          </a:xfrm>
          <a:prstGeom prst="roundRect">
            <a:avLst>
              <a:gd name="adj" fmla="val 16667"/>
            </a:avLst>
          </a:prstGeom>
          <a:solidFill>
            <a:srgbClr val="3366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avourite stations (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ree to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ay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095880" y="5105520"/>
            <a:ext cx="2894040" cy="1199880"/>
          </a:xfrm>
          <a:prstGeom prst="roundRect">
            <a:avLst>
              <a:gd name="adj" fmla="val 16667"/>
            </a:avLst>
          </a:prstGeom>
          <a:solidFill>
            <a:srgbClr val="3366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tations Viewing (day parts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ek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MAN IN ROOM FILLED WITH TELEVISION SCREENS"/>
          <p:cNvPicPr/>
          <p:nvPr/>
        </p:nvPicPr>
        <p:blipFill>
          <a:blip r:embed="rId1"/>
          <a:stretch/>
        </p:blipFill>
        <p:spPr>
          <a:xfrm>
            <a:off x="6172200" y="1828800"/>
            <a:ext cx="2743200" cy="2819520"/>
          </a:xfrm>
          <a:prstGeom prst="rect">
            <a:avLst/>
          </a:prstGeom>
          <a:ln w="28440">
            <a:solidFill>
              <a:srgbClr val="654321"/>
            </a:solidFill>
            <a:miter/>
          </a:ln>
        </p:spPr>
      </p:pic>
      <p:sp>
        <p:nvSpPr>
          <p:cNvPr id="258" name="Rectangle 8"/>
          <p:cNvSpPr/>
          <p:nvPr/>
        </p:nvSpPr>
        <p:spPr>
          <a:xfrm>
            <a:off x="109080" y="22860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a Consumption - Tele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3962520" y="34290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4648320" y="1676520"/>
          <a:ext cx="426708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4"/>
          <p:cNvSpPr/>
          <p:nvPr/>
        </p:nvSpPr>
        <p:spPr>
          <a:xfrm>
            <a:off x="5410080" y="6477120"/>
            <a:ext cx="3276720" cy="307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TV Viewers = 4,5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533520" y="6477120"/>
            <a:ext cx="3276360" cy="307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ase: Total Population = 5,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6"/>
          <p:cNvGraphicFramePr/>
          <p:nvPr/>
        </p:nvGraphicFramePr>
        <p:xfrm>
          <a:off x="-838080" y="1619280"/>
          <a:ext cx="5638680" cy="36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838080" y="1619280"/>
                    <a:ext cx="563868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7"/>
          <p:cNvSpPr/>
          <p:nvPr/>
        </p:nvSpPr>
        <p:spPr>
          <a:xfrm>
            <a:off x="2025720" y="73080"/>
            <a:ext cx="53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V 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1347840" y="1608120"/>
          <a:ext cx="352908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1608120"/>
                    <a:ext cx="35290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mo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295280" y="8380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Gender &amp; Marital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715000" y="8380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Age &amp; Na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 flipV="1">
            <a:off x="3076200" y="1599840"/>
            <a:ext cx="12600" cy="4235400"/>
          </a:xfrm>
          <a:prstGeom prst="line">
            <a:avLst/>
          </a:prstGeom>
          <a:ln w="3492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0" y="1752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0" y="23763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52280" y="2986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52280" y="35956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ried with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52280" y="42051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ried without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52280" y="4890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vor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152280" y="5486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d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14"/>
          <p:cNvGraphicFramePr/>
          <p:nvPr/>
        </p:nvGraphicFramePr>
        <p:xfrm>
          <a:off x="6834240" y="1608120"/>
          <a:ext cx="3529080" cy="441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4240" y="1608120"/>
                    <a:ext cx="35290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Line 15"/>
          <p:cNvSpPr/>
          <p:nvPr/>
        </p:nvSpPr>
        <p:spPr>
          <a:xfrm flipH="1" flipV="1">
            <a:off x="8562600" y="1599840"/>
            <a:ext cx="12600" cy="4235400"/>
          </a:xfrm>
          <a:prstGeom prst="line">
            <a:avLst/>
          </a:prstGeom>
          <a:ln w="3492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7544880" y="1752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7445880" y="2209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7445880" y="2743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7445880" y="32004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7544880" y="3657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7445880" y="41148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7445880" y="46483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7445880" y="5105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7567200" y="5562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5562720" y="17524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6"/>
          <p:cNvSpPr/>
          <p:nvPr/>
        </p:nvSpPr>
        <p:spPr>
          <a:xfrm>
            <a:off x="5562720" y="21780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7"/>
          <p:cNvSpPr/>
          <p:nvPr/>
        </p:nvSpPr>
        <p:spPr>
          <a:xfrm>
            <a:off x="5562720" y="2635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4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8"/>
          <p:cNvSpPr/>
          <p:nvPr/>
        </p:nvSpPr>
        <p:spPr>
          <a:xfrm>
            <a:off x="5562720" y="31240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4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5562720" y="36259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4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4876920" y="41148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rs &amp;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1"/>
          <p:cNvSpPr/>
          <p:nvPr/>
        </p:nvSpPr>
        <p:spPr>
          <a:xfrm>
            <a:off x="4876920" y="46162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at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4876920" y="50734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ab Exp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4724280" y="55306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n - Arab Exp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4"/>
          <p:cNvSpPr/>
          <p:nvPr/>
        </p:nvSpPr>
        <p:spPr>
          <a:xfrm>
            <a:off x="304920" y="2895480"/>
            <a:ext cx="29718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5"/>
          <p:cNvSpPr/>
          <p:nvPr/>
        </p:nvSpPr>
        <p:spPr>
          <a:xfrm>
            <a:off x="5257800" y="4495680"/>
            <a:ext cx="3733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228708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7"/>
          <p:cNvSpPr/>
          <p:nvPr/>
        </p:nvSpPr>
        <p:spPr>
          <a:xfrm>
            <a:off x="2188080" y="24382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8"/>
          <p:cNvSpPr/>
          <p:nvPr/>
        </p:nvSpPr>
        <p:spPr>
          <a:xfrm>
            <a:off x="2287080" y="3048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2188080" y="3657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2188080" y="42670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1"/>
          <p:cNvSpPr/>
          <p:nvPr/>
        </p:nvSpPr>
        <p:spPr>
          <a:xfrm>
            <a:off x="2287080" y="4876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188080" y="54864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3"/>
          <p:cNvSpPr/>
          <p:nvPr/>
        </p:nvSpPr>
        <p:spPr>
          <a:xfrm>
            <a:off x="2895480" y="6477120"/>
            <a:ext cx="3276720" cy="307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TV Viewers = 4.5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7:18:30Z</dcterms:created>
  <dc:creator>marwan</dc:creator>
  <dc:description/>
  <dc:language>en-US</dc:language>
  <cp:lastModifiedBy>Umar</cp:lastModifiedBy>
  <dcterms:modified xsi:type="dcterms:W3CDTF">2009-12-03T08:03:17Z</dcterms:modified>
  <cp:revision>491</cp:revision>
  <dc:subject/>
  <dc:title>Case Study on TV</dc:title>
</cp:coreProperties>
</file>